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9A26-8536-4EB7-AC76-4894F7D2B7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7D5-39B2-4C24-9263-673AB063F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D42-D112-4BF5-9B9B-580048395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9F1C-F010-4F61-B3DC-D6B56057E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049-281B-42A3-AB5F-595B5ADD0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EC4-0FDA-4F61-A456-1564165AA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CDDC-7C7D-4304-9688-E99C6828A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26B-2EB7-4512-BF27-B6F0BDD9A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6BD6-682D-4663-8FC5-27EFA6661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37F-F6E2-47CC-AA14-581699A3D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43E6-8AD7-4AB4-B459-2B7094D87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FD82-DE96-4BD1-9FBF-17C3C61E2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3C2-3DAD-4B52-B298-BBCAB44B4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A86-8C0E-4E62-9666-5866E85D5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3B5E-0F5F-4B3A-8E3B-2C3311C4F69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5F6F-0506-4C8B-9D59-5BDD467A54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5DB5-14EF-41A4-9BA0-1B468AAE3C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0AEA-BF9C-45AC-9DE9-21FE6375AA5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B2E9-5B95-4600-B0F7-CC9AA0A1E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5C1-6B4B-4DC2-99BB-BA068A3B7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1B0-0CAC-4BF3-A33E-78E189054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CF0-F53F-4F68-B495-9DFD9E35C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BA75-784C-4BE9-AD43-19F3CBB05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1C6-6F36-4F54-9CD9-2CADFA50F8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0F5E-1694-4437-839F-1C0DDDF72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DC1-F9D4-4D4B-8DF4-B15C4552D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69A-9D25-460F-B73E-D17690F4F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93E-24AE-408A-8545-D70FCF68D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A17-88EC-4138-8E4F-6DF12E738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579-AC99-4D16-80B1-21A8665C5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3161-17B9-4047-AED9-F41CC0498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7971-5641-4874-AD56-449CECB91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45C-746E-4EE1-9F0F-F5F2EE8AB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CCC-394B-4168-B1F1-2E9556B5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1325-3290-426C-9B37-F77EE8DC2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7349-01C3-4645-9676-9FE2C31B6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66DB-957F-49BC-8E1C-246CE985B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83D-695F-49EE-A336-43A369CBE7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50C-53A9-456F-9245-C5DAED031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6DE7-3BB6-4D77-9349-7ECCB9AD3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47E5-32AA-4C8E-B377-D43509F16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E03-657F-4FD1-AA80-FDEDD1FD0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6CA5-5A56-4944-92D2-526FCB525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169D-F598-477B-A7C3-3D88EDDA5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C6A3-E75A-4AF4-BA17-21551BA54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82DB-D5AA-4D4A-840D-A5758084C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170E-23A8-4EBC-A05B-49A6CD74E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4E25-E4C4-4055-9984-3D381FBA2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E79F-2E07-41FA-8467-92584C2B9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4A8B-7685-41ED-BCBC-020C2D053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24ED-F7F2-4943-BA0D-4091B8C6B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C83E-23F6-443F-AF07-A2D3996D3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EE89-2D56-4E87-B06C-0DF4BD081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A6D-1538-4B0C-B5F5-FE805CEB5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519B-2D9D-4EE3-A7BB-9E6C2D7CE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0D9-3AB8-4668-8C07-1F8793E10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AD7-322B-418B-9A7E-D2EF126C1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10FC-A76F-43D8-975C-FAD5F02D3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0612-342D-4E57-8809-87EBCD9D3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BF6E-CDA4-4EEC-902E-277617175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3EA3-01C5-40B1-9839-C5407F319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5FA-6C26-4C42-BE64-C37DC9FE8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ACB7-5F13-4E45-9B30-9B8F03F61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66F-16AC-4A66-B0B8-76D6E9027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146A-D8F6-44DB-BD78-2C3FFE73E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DE6-07B0-4026-80B8-74BB770C4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12E-0A10-4D53-BC02-0F387B93B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96A-8730-4768-AB97-CF4DA1B1C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688-507B-4F54-8DBE-89930474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3EFD-6EAA-46BA-B422-D29C0E4F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7AB-C3E4-4467-8B2E-B47D474DB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5146-E09A-4683-8866-95930BFC8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E32D-DFC6-40AD-B1B2-2CC81CFF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B43-C22B-4B09-B1A7-B2AC560AF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822-FE74-4C15-ABC9-EC34FD756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13ED-4863-443C-9236-6820B86EE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415-8B2C-4559-A32F-4A6BFB0CF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550D-D943-4407-B647-EDF0ED67C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C31-4D46-45F9-A226-133917E85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1DF0-AAEB-445F-B56F-71C6F916E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1D51-98BA-4A83-AF15-F5F478DE3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5C4-631E-4433-86B6-80F3905DA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B01B-9977-491F-AA71-2A6187231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501E-56FA-44F5-93AB-29BD077A3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717-91E7-49A2-ADF1-8271DE013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BB13-BAA9-4484-B7B5-CFFC6318C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CE5C-9B53-499F-A015-70A62D827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A59-4F79-4A60-B146-710635A83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666-4366-4BDC-B89D-13F95FDB2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3EE3-CABC-4F6B-A008-4FB688385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4610-C82B-456C-865E-52414C73F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6630-4674-4669-BB3E-F49BC58F4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B5BE-2D6F-4AFD-B815-2214421A3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8850-A125-49D2-80D1-70166434C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9A4D-7EAE-4AF2-9BD1-E2B6ADA343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0671-8EF9-41AD-A3EA-51126814E5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4231-2D2B-4DFC-B93C-B18E6068A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7EF4-81AF-4EC6-A4F9-63AF6B2422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E796-7723-4DDA-8AF1-FFBB28921C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14B5-13F9-475B-8E3A-E34B3A7364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A9E0-71C9-43CC-8389-6A9CB781BB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FD00-7156-41ED-8514-E40FCF40C5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E961-2AC5-4CD1-9C05-FA613B2313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696D-FCEF-4870-A79A-9B913A56FB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FAF8-0C90-4189-B650-53C0ECAEB9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5510-7E02-4042-9DF9-C41EE94643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656B-25FB-4BD6-B3E3-FB0B79E9F6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975-741A-4C4C-8951-757A955DF1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81A-9F82-4F0A-B97A-395943BC5F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9BF-7ED9-40E7-A3F4-D46D051D8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B755-6593-4BD4-B5A6-8B8CAE626B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D54-D2E5-4464-8D2E-BB387EB39B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8CF-3D8E-4C57-BBD4-123070E5ED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5B6-C1B7-4EF5-8E73-1AF98D0994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76D-F55A-4261-90BB-11F1D9DA3A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5B3-4C1D-461A-BC6B-4D14C80492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44F-8DA3-45B8-B5C7-18BB1135C0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3E5-557E-4007-96BE-F5677C60EB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757-AE21-4D3B-922F-6C56E117A6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754-3F21-47CA-8E0A-3504289DE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5CCA-D1B9-4DBE-9CA2-AA2DAFB2E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87DF-A37E-47E2-A442-59C08702C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65E0-920F-4564-BB3C-C48534E7C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4CAE-4151-4DF5-8B82-18B78D0AF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B4B3-C26C-4F16-A5FC-612CD3AA8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5F3-4F65-43C4-8C30-68423A3DC42F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F240-39F3-45F0-B0AE-38902F8BACC9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F7D9-6A5E-4319-B886-F748EAE27919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Prim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01720" y="1886040"/>
            <a:ext cx="83059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80% del tempo per il 20% di attività e problemi importanti,strategici,che danno l’8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20% del tempo per l’80% di attività e problemi non importanti,operativi che danno il 2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areto sostiene che: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99B4-0E91-4B09-BE8F-62F2BCD0C49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668400" y="1371600"/>
            <a:ext cx="2601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00000" y="23763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ZIONE DEI FINI DEL REPARTO/UF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257800" y="23763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ETTAZIONE DI PIANI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5440" y="3718080"/>
            <a:ext cx="4495680" cy="22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’E’ LA MISSION DEL MIO REPARTO/UFFIC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GLI OBIETTIVI CHE MI PONGO O CHE MI HANNO ASSEGNATO (FATTURATO, REDDITIVITA’, PRESTAZION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595840" y="3718080"/>
            <a:ext cx="3853080" cy="2424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ZIONI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STEMA DI 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ISURA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5D58-74C4-4E91-B0F2-126AD654D92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668400" y="1233360"/>
            <a:ext cx="2601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0760" y="2176560"/>
            <a:ext cx="45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CCOLTA DI INFORMAZIONI/ ELABORAZIONE DI SCE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257800" y="21765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ZIONE SVILUPPO 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76120" y="3632040"/>
            <a:ext cx="4649760" cy="2491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’E’ L’ANDAMENTO DEL MERCA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SONO POSIZIONATI I CONCORR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VARIABILI ESTERNE CHE INCIDERANNO SULLA PERFORMANCE AZIEND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173560" y="3632040"/>
            <a:ext cx="4537080" cy="2332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E QUANTE RISORSE DEDIC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PARTNERSHIP ATTIV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BENCH MARK CON I CONCOR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RUMENTI PER CALCOLARE LA REDDITIVITA’ DEI PROG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3DAD-CA2A-4D91-97ED-0A650656928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528360" y="1114560"/>
            <a:ext cx="2889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976320" y="213372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 RISORSE NECESSARIE E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400720" y="23144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ZIONE DEI TEMPI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71400" y="3718080"/>
            <a:ext cx="4496040" cy="208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I COSA HO BISOGNO PER OTTENERE GLI OBIE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OVE POSSO REPERIRE CIO’ CHE MI SER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IANO DI REPERIMENTO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477040" y="3517920"/>
            <a:ext cx="4190760" cy="2424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POSSO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VOGLIO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SA PRODU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 QUALI TEMP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 QUANTE RIS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AA2-0959-4691-9ABE-EF2615B92D2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509280" y="993600"/>
            <a:ext cx="2889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12720" y="1895400"/>
            <a:ext cx="45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DDIVISIONE DEI COMPITI E ATTRIBUZIONE DELLE RESPONS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11080" y="3411360"/>
            <a:ext cx="4175280" cy="27774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FACCIO A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I MIEI PROCES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I FA 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RESPONSABILITA’ DEI RUO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DEVE CIRCOLARE L’INFORMA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5130720" y="2098800"/>
            <a:ext cx="45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GLIORAMENTO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405400" y="3429000"/>
            <a:ext cx="4329000" cy="21898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FASI CRITICHE NEL PROCES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POSSO RIDURRE I C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MIGLIORARE COSTANTEMENTE LA QUALITA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5A8-3895-4904-9167-E10F635D12F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4076280" y="1197000"/>
            <a:ext cx="1755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47880" y="184788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257800" y="1847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120" y="2617920"/>
            <a:ext cx="4495680" cy="33980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ENGONO DEFINITI ED ASSEGNATI OBIE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VVIENE UNA VALUTAZIONE DELLE COMPETENZE NECESSARIE E DISPONIB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CI SI MUOVE PER RICERCARE E SELEZIONARE LE RISORSE PROFESSIONALI NECESSAR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91000" y="2617920"/>
            <a:ext cx="4114800" cy="3069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CRESCONO PROFESSIONALMENTE LE MIE RIS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AZIENDA ED I CAPI FAVORISCONO LA CRESCITA MANGERIALE DI ALTRE FIG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 RESPONSABILI INSEGNANO A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0749-F02F-41F2-8415-41DF296BA61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065120" y="1219320"/>
            <a:ext cx="1755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05040" y="201132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400720" y="1828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 CLIMA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00120" y="2703600"/>
            <a:ext cx="4495680" cy="33980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IONE DEL SISTEMA DI RETRIBUZIONE FISSO E VARIABILE E’ EFFIC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STE E VIENE CORRENTEMENTE UTILIZZATO UN SISTEMA DI RETRIBUZIONI NON MONETAR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SONO COINVOLTI I CAPI DI LINEA NELL’ASSEGNAZIONE DELLE RICOMPEN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324400" y="2703600"/>
            <a:ext cx="4267440" cy="3295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CAPACE DI PREMIARE E DI BIASIM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ATTENTO AI SEGNALI DEBO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UNICO IN MODO EFFICACE CON 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I PREOCCUPO DEL BENESSERE DEL GRUPP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ZIENDA: CASERMA, FAMIGLIA O SQUAD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0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D97-8B7A-4D2F-8220-32F9293834B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920400" y="1144440"/>
            <a:ext cx="207648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90400" y="19447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ZIONE DI STANDARD DI PRESTAZIONE E MOMENT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257800" y="2125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NITORAGGIO DEI FLUSSI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66720" y="3403440"/>
            <a:ext cx="4495680" cy="2239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HO CHIARO E SO SPIEGARE QUANDO E COME UNA PRESTAZIONE MI SODDISF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ISSO MOMENTI DI VALUTAZIONE FORMALI CON I MIE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5334120" y="3429000"/>
            <a:ext cx="4190760" cy="27399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HO SOTTO CONTROLLO I FLUSSI PRODU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UTILIZZO STRUMENTI PER IL CONTROLLO DELLA QUALITA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BBIAMO UN SISTEMA DI RACCOLTA DI DATI STATISTICI DI PRESTAZIONE A TUTTI I LIVEL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059A-AFA3-429E-9BE0-8D8C40A07C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20400" y="1219320"/>
            <a:ext cx="207648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4300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CCOLTA DATI SU ANDAMENTI 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498680" y="2790720"/>
            <a:ext cx="6933960" cy="3357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I SIAMO DATI STRUMENTI PER SAPERE COME STIAMO ANDANDO IN TERMINI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LIMA ALL’INTERNO DELL’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ULTATI QUANTITATIVI DELLE PRESTAZIONI DE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NGOLI E AZIEND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TA’ DEL SERVIZIO/PRODOTTO ERO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ROLLO DEI C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97CD-108E-4E5B-AFA6-4E26F4EACA9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347120" y="12286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204200" y="37148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565320" y="1214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630120" y="3714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781200" y="17524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terminazione dei fini della strut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Progettazione di piani di 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819000" y="4305240"/>
            <a:ext cx="3848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Valutazione delle risorse necessarie e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Programmazione dei tempi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Suddivisione dei compiti e attribuzione delle responsabi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Miglioramento dei proces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932440" y="4305240"/>
            <a:ext cx="347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finizione di standard di prestazione e momenti di valu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Monitoraggio dei flussi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5977080" y="1824120"/>
            <a:ext cx="293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Sviluppo dei 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Gestione delle ricom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Attenzione al clima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51BA-8318-4ABE-9602-08C075DCE71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85800" y="1295280"/>
            <a:ext cx="85345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’ORGANIZZAZIONE PUO’ ESSERE DEFINITA COME UN INSIEME DI ASPETTATIVE RISPETTO AI COMPORTAMENTI DI CIASCUNO DEI MEMB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4038480"/>
            <a:ext cx="85345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GNI PERSONA SI ASPETTA CHE I COLLEGHI O IL RESPONSABILE ASSUMANO DEI COMPORTAMENTI DETERMINATI DAL RUOLO RICOP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100-55DB-4F2F-852D-B54A8C1773A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611360" y="1746360"/>
            <a:ext cx="6686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 SONO ATTIVITA’ CHE POSSONO ESSERE SVOLTE SOLO DA V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QUESTE VA DATA PRIORITA’ DELEGANDO IN MODO ADEGU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n conclusione: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E87-3B6B-4B7F-B06C-77752983FA3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abilire le pri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B03-5E05-43C1-AFC0-AFACF943F2E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47800" y="1214280"/>
            <a:ext cx="8283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IMPORTANZ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idenza di una attività sugli obiettivi fondament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8360" y="3112920"/>
            <a:ext cx="839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URGENZA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determinata dalla scadenza entro cui il problema va gestito con successo e senza dan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38360" y="4786200"/>
            <a:ext cx="825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entrambe alte/b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una alta/l’altra b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rg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404-5F7E-469A-8939-8F01A36338F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046160" y="1285920"/>
            <a:ext cx="7813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’80% delle urgenze nascono su attività e problemi che incidono al 20% sui risultati fi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5480" y="2687760"/>
            <a:ext cx="831060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ulla o posi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rimangono inalterati,diventano più facili o si risolvono da s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770040" y="4538520"/>
            <a:ext cx="836604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ega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diventano più difficili da gestire e producono effetti negativi cresc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43C-EB48-46A3-A67F-1D829155BD6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8000" y="1230480"/>
            <a:ext cx="85849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devono essere svolti subito;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 risultati che si possono conseguire sono rilevanti, se tralasciati comportano serie consegu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B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dovrebbero essere svolti subito;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possono essere rimandati a lungo altrimenti si trasformano in compiti 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C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possono essere rimanda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D544-0259-47D0-B6D3-3E744E66C7A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66720" y="1171440"/>
            <a:ext cx="85010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e poi i compiti D : in teoria non dovrebbero essere fatti perché non vincolati da scadenze, ma sono piacevoli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Possiamo anche dare delle sottocategorie come A1, A2, A3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COME : segnare in agenda, schedari, cartelline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 post it e biglietti volanti!!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Second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appa delle “grane” del ca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5" name="Segnaposto numero diapositiva 1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8624-2918-474A-8D16-CC067151EDF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738360" y="928800"/>
            <a:ext cx="8665920" cy="4135320"/>
          </a:xfrm>
          <a:custGeom>
            <a:avLst/>
            <a:gdLst>
              <a:gd name="textAreaLeft" fmla="*/ 0 w 8665920"/>
              <a:gd name="textAreaRight" fmla="*/ 8666280 w 8665920"/>
              <a:gd name="textAreaTop" fmla="*/ 0 h 4135320"/>
              <a:gd name="textAreaBottom" fmla="*/ 1485360 h 413532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10800000">
            <a:off x="736200" y="2209320"/>
            <a:ext cx="8666280" cy="4135680"/>
          </a:xfrm>
          <a:custGeom>
            <a:avLst/>
            <a:gdLst>
              <a:gd name="textAreaLeft" fmla="*/ 0 w 8666280"/>
              <a:gd name="textAreaRight" fmla="*/ 8666640 w 8666280"/>
              <a:gd name="textAreaTop" fmla="*/ 0 h 4135680"/>
              <a:gd name="textAreaBottom" fmla="*/ 1485360 h 413568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344840" y="2638440"/>
            <a:ext cx="1448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186080" y="4219560"/>
            <a:ext cx="1791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LE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127332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ORGANIZZA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8"/>
          <p:cNvSpPr/>
          <p:nvPr/>
        </p:nvSpPr>
        <p:spPr>
          <a:xfrm>
            <a:off x="2416320" y="130968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NTROL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4309920" y="1041480"/>
            <a:ext cx="18147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AGGIUNG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LI OBIE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6066000" y="1295280"/>
            <a:ext cx="1814400" cy="8575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ISOLV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1"/>
          <p:cNvSpPr/>
          <p:nvPr/>
        </p:nvSpPr>
        <p:spPr>
          <a:xfrm>
            <a:off x="715968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L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EMERG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>
            <a:off x="1060560" y="43419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”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SUPERI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3"/>
          <p:cNvSpPr/>
          <p:nvPr/>
        </p:nvSpPr>
        <p:spPr>
          <a:xfrm>
            <a:off x="2155680" y="507996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"/>
          <p:cNvSpPr/>
          <p:nvPr/>
        </p:nvSpPr>
        <p:spPr>
          <a:xfrm>
            <a:off x="6070680" y="5094360"/>
            <a:ext cx="19746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MOTIV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5"/>
          <p:cNvSpPr/>
          <p:nvPr/>
        </p:nvSpPr>
        <p:spPr>
          <a:xfrm>
            <a:off x="7186680" y="4335480"/>
            <a:ext cx="19749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ALLEN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4135320" y="540540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UID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ject 2" descr=""/>
          <p:cNvPicPr/>
          <p:nvPr/>
        </p:nvPicPr>
        <p:blipFill>
          <a:blip r:embed="rId1"/>
          <a:stretch/>
        </p:blipFill>
        <p:spPr>
          <a:xfrm>
            <a:off x="7585200" y="124632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331" name="Oval 4"/>
          <p:cNvSpPr/>
          <p:nvPr/>
        </p:nvSpPr>
        <p:spPr>
          <a:xfrm>
            <a:off x="3284640" y="942840"/>
            <a:ext cx="3200400" cy="1562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e leve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067440" y="3632040"/>
            <a:ext cx="3386160" cy="18288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escita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880920" y="377208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valutazione e al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“driver”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A29E-7724-439F-90D6-917F28A5381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3166920" y="486576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e 12"/>
          <p:cNvSpPr/>
          <p:nvPr/>
        </p:nvSpPr>
        <p:spPr>
          <a:xfrm>
            <a:off x="738360" y="2697120"/>
            <a:ext cx="8804160" cy="36622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sellaDiTesto 13"/>
          <p:cNvSpPr/>
          <p:nvPr/>
        </p:nvSpPr>
        <p:spPr>
          <a:xfrm>
            <a:off x="2714760" y="3056040"/>
            <a:ext cx="46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o stile manage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estione del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gestione del personale non è un’attività astratta o generica ma è fortemente condizionata: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cultura azienda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 contesto organizzativ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situazione di merc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DF6-9020-4F8C-9107-FC11D901F95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 rot="10800000">
            <a:off x="3234960" y="185652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i variabili del modello FAB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235320" y="368604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>
            <a:hlinkClick r:id="rId1" action="ppaction://hlinksldjump"/>
          </p:cNvPr>
          <p:cNvSpPr/>
          <p:nvPr/>
        </p:nvSpPr>
        <p:spPr>
          <a:xfrm>
            <a:off x="3483000" y="3305160"/>
            <a:ext cx="3219480" cy="60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ile di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 rot="5400000">
            <a:off x="4860360" y="-1015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336680" y="1371600"/>
            <a:ext cx="2219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6289560" y="1371600"/>
            <a:ext cx="23940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835440" y="914400"/>
            <a:ext cx="245412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6200000">
            <a:off x="4860720" y="37843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6454800" y="49528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1006560" y="4952880"/>
            <a:ext cx="264168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813120" y="54100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AECB-1D57-4132-B511-B1387208BF5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8864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chema di Mintzberg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50C-5DB3-47D1-A9F2-6EB85956BF2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7" descr=""/>
          <p:cNvPicPr/>
          <p:nvPr/>
        </p:nvPicPr>
        <p:blipFill>
          <a:blip r:embed="rId1"/>
          <a:srcRect l="10829" t="26032" r="34611" b="44975"/>
          <a:stretch/>
        </p:blipFill>
        <p:spPr>
          <a:xfrm>
            <a:off x="2000160" y="1413000"/>
            <a:ext cx="6121440" cy="4484520"/>
          </a:xfrm>
          <a:prstGeom prst="rect">
            <a:avLst/>
          </a:prstGeom>
          <a:ln w="0">
            <a:noFill/>
          </a:ln>
        </p:spPr>
      </p:pic>
      <p:sp>
        <p:nvSpPr>
          <p:cNvPr id="185" name="Connettore 1 9"/>
          <p:cNvSpPr/>
          <p:nvPr/>
        </p:nvSpPr>
        <p:spPr>
          <a:xfrm flipH="1">
            <a:off x="2504880" y="3284640"/>
            <a:ext cx="255564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ttore 1 11"/>
          <p:cNvSpPr/>
          <p:nvPr/>
        </p:nvSpPr>
        <p:spPr>
          <a:xfrm>
            <a:off x="5060880" y="3284640"/>
            <a:ext cx="306072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ttore 1 14"/>
          <p:cNvSpPr/>
          <p:nvPr/>
        </p:nvSpPr>
        <p:spPr>
          <a:xfrm flipV="1">
            <a:off x="5060880" y="907920"/>
            <a:ext cx="0" cy="2376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15"/>
          <p:cNvSpPr/>
          <p:nvPr/>
        </p:nvSpPr>
        <p:spPr>
          <a:xfrm>
            <a:off x="4313520" y="5908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6"/>
          <p:cNvSpPr/>
          <p:nvPr/>
        </p:nvSpPr>
        <p:spPr>
          <a:xfrm>
            <a:off x="7195320" y="1547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uperiori e colle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17"/>
          <p:cNvSpPr/>
          <p:nvPr/>
        </p:nvSpPr>
        <p:spPr>
          <a:xfrm>
            <a:off x="760680" y="112536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lienti, fornitori,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lla suddivisione del lavor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i flussi operativ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apacità di attivare programmi di innovazione dei prodotti/servizi e dei process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le tecnologie e degli strumenti disponibil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qualità dei layout e degli ambi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EDB9-5802-4565-A9EE-F71A041C201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est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728280" y="1216080"/>
            <a:ext cx="859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modalità di crescita vertical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opportunità di sviluppo professionale (formazione, mobilità interfuzionale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d il funzionamento di un sistema di riconoscimenti (indirizzo e ricompensa delle prestazioni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5FCD-BAA3-44FE-9523-5E148BBDC29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 Intern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1400" y="1252080"/>
            <a:ext cx="8739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attività di comunicazione interna top-down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attivazione di canali per ricevere osservazioni e proposte di miglioramento da parte dei dipend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modalità strutturate o meno per diffondere e consolidare la cultura aziendale ed il senso di appartenenz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FC02-8783-4D69-9BB3-C7C60FCC935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e di Managemen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3360" y="1266840"/>
            <a:ext cx="8704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a “guida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ecidere, definire obiettivi e standard, attribuire compiti, fissare regole, essere portavoce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o “stimolo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addestrare, incoraggiare, stressare le competenze e superare gli standard, delegare e dare autonomi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di “regolazione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supervisionare attività, mediare i conflitti, valutare le performance, fornire feedback sulle competenz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DF8-F163-43D4-ADA6-880BC35DDFB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25320" y="1241280"/>
            <a:ext cx="90014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“qualità intrinseca” del lavoro svolto in termini di valore organizzativo del ruolo, rilevanza del contributo alla mission d’impresa; margini di autonomia e discrezionalità, possibilità di dimostrare capacità personali, opportunità di apprendiment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 “feedback” in termini di gamma ed esplicitazione dei riconoscimenti ottenibili, criteri e processo di valutazione, equità della distribuzione dei riconoscimenti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AE9-1AC1-4DFB-B22F-2208C2F5C80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25480" y="1636200"/>
            <a:ext cx="8655120" cy="31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i identificazione e di senso di appartenenza verso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figure professionali presenti nel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diverse strutture in cui si articola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29BF-2CBF-4C84-BF83-1DE7120B14D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premess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474840" y="1174680"/>
            <a:ext cx="1861200" cy="1683720"/>
            <a:chOff x="474840" y="1174680"/>
            <a:chExt cx="1861200" cy="1683720"/>
          </a:xfrm>
        </p:grpSpPr>
        <p:sp>
          <p:nvSpPr>
            <p:cNvPr id="375" name="AutoShape 5"/>
            <p:cNvSpPr/>
            <p:nvPr/>
          </p:nvSpPr>
          <p:spPr>
            <a:xfrm>
              <a:off x="477000" y="1174680"/>
              <a:ext cx="185724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34"/>
            <p:cNvGrpSpPr/>
            <p:nvPr/>
          </p:nvGrpSpPr>
          <p:grpSpPr>
            <a:xfrm>
              <a:off x="715680" y="1175760"/>
              <a:ext cx="1620360" cy="382680"/>
              <a:chOff x="715680" y="1175760"/>
              <a:chExt cx="1620360" cy="382680"/>
            </a:xfrm>
          </p:grpSpPr>
          <p:grpSp>
            <p:nvGrpSpPr>
              <p:cNvPr id="377" name="Group 14"/>
              <p:cNvGrpSpPr/>
              <p:nvPr/>
            </p:nvGrpSpPr>
            <p:grpSpPr>
              <a:xfrm>
                <a:off x="726480" y="1198440"/>
                <a:ext cx="1596600" cy="342360"/>
                <a:chOff x="726480" y="1198440"/>
                <a:chExt cx="1596600" cy="342360"/>
              </a:xfrm>
            </p:grpSpPr>
            <p:sp>
              <p:nvSpPr>
                <p:cNvPr id="378" name="Freeform 7"/>
                <p:cNvSpPr/>
                <p:nvPr/>
              </p:nvSpPr>
              <p:spPr>
                <a:xfrm>
                  <a:off x="726480" y="1302840"/>
                  <a:ext cx="68400" cy="1526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63" h="140">
                      <a:moveTo>
                        <a:pt x="0" y="22"/>
                      </a:moveTo>
                      <a:lnTo>
                        <a:pt x="20" y="0"/>
                      </a:lnTo>
                      <a:lnTo>
                        <a:pt x="55" y="0"/>
                      </a:lnTo>
                      <a:lnTo>
                        <a:pt x="63" y="32"/>
                      </a:lnTo>
                      <a:lnTo>
                        <a:pt x="61" y="127"/>
                      </a:lnTo>
                      <a:lnTo>
                        <a:pt x="37" y="140"/>
                      </a:lnTo>
                      <a:lnTo>
                        <a:pt x="2" y="121"/>
                      </a:lnTo>
                      <a:lnTo>
                        <a:pt x="0" y="5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8"/>
                <p:cNvSpPr/>
                <p:nvPr/>
              </p:nvSpPr>
              <p:spPr>
                <a:xfrm>
                  <a:off x="1152360" y="1257120"/>
                  <a:ext cx="99360" cy="2192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91" h="201">
                      <a:moveTo>
                        <a:pt x="10" y="55"/>
                      </a:moveTo>
                      <a:lnTo>
                        <a:pt x="12" y="16"/>
                      </a:lnTo>
                      <a:lnTo>
                        <a:pt x="35" y="0"/>
                      </a:lnTo>
                      <a:lnTo>
                        <a:pt x="70" y="5"/>
                      </a:lnTo>
                      <a:lnTo>
                        <a:pt x="91" y="26"/>
                      </a:lnTo>
                      <a:lnTo>
                        <a:pt x="81" y="186"/>
                      </a:lnTo>
                      <a:lnTo>
                        <a:pt x="41" y="201"/>
                      </a:lnTo>
                      <a:lnTo>
                        <a:pt x="0" y="181"/>
                      </a:lnTo>
                      <a:lnTo>
                        <a:pt x="10" y="55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9"/>
                <p:cNvSpPr/>
                <p:nvPr/>
              </p:nvSpPr>
              <p:spPr>
                <a:xfrm>
                  <a:off x="1596240" y="1249560"/>
                  <a:ext cx="90360" cy="2376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83" h="218">
                      <a:moveTo>
                        <a:pt x="2" y="22"/>
                      </a:moveTo>
                      <a:lnTo>
                        <a:pt x="23" y="0"/>
                      </a:lnTo>
                      <a:lnTo>
                        <a:pt x="64" y="0"/>
                      </a:lnTo>
                      <a:lnTo>
                        <a:pt x="83" y="24"/>
                      </a:lnTo>
                      <a:lnTo>
                        <a:pt x="81" y="203"/>
                      </a:lnTo>
                      <a:lnTo>
                        <a:pt x="35" y="218"/>
                      </a:lnTo>
                      <a:lnTo>
                        <a:pt x="0" y="198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0"/>
                <p:cNvSpPr/>
                <p:nvPr/>
              </p:nvSpPr>
              <p:spPr>
                <a:xfrm>
                  <a:off x="2231640" y="1198440"/>
                  <a:ext cx="91440" cy="34236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84" h="314">
                      <a:moveTo>
                        <a:pt x="6" y="23"/>
                      </a:moveTo>
                      <a:lnTo>
                        <a:pt x="29" y="0"/>
                      </a:lnTo>
                      <a:lnTo>
                        <a:pt x="70" y="0"/>
                      </a:lnTo>
                      <a:lnTo>
                        <a:pt x="84" y="39"/>
                      </a:lnTo>
                      <a:lnTo>
                        <a:pt x="76" y="285"/>
                      </a:lnTo>
                      <a:lnTo>
                        <a:pt x="43" y="314"/>
                      </a:lnTo>
                      <a:lnTo>
                        <a:pt x="0" y="280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11"/>
                <p:cNvSpPr/>
                <p:nvPr/>
              </p:nvSpPr>
              <p:spPr>
                <a:xfrm>
                  <a:off x="789480" y="1309680"/>
                  <a:ext cx="375840" cy="131760"/>
                </a:xfrm>
                <a:custGeom>
                  <a:avLst/>
                  <a:gdLst>
                    <a:gd name="textAreaLeft" fmla="*/ 0 w 375840"/>
                    <a:gd name="textAreaRight" fmla="*/ 376200 w 375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45" h="121">
                      <a:moveTo>
                        <a:pt x="0" y="17"/>
                      </a:moveTo>
                      <a:lnTo>
                        <a:pt x="345" y="0"/>
                      </a:lnTo>
                      <a:lnTo>
                        <a:pt x="340" y="121"/>
                      </a:lnTo>
                      <a:lnTo>
                        <a:pt x="0" y="12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12"/>
                <p:cNvSpPr/>
                <p:nvPr/>
              </p:nvSpPr>
              <p:spPr>
                <a:xfrm>
                  <a:off x="1238760" y="1280160"/>
                  <a:ext cx="365760" cy="180720"/>
                </a:xfrm>
                <a:custGeom>
                  <a:avLst/>
                  <a:gdLst>
                    <a:gd name="textAreaLeft" fmla="*/ 0 w 365760"/>
                    <a:gd name="textAreaRight" fmla="*/ 366120 w 36576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336" h="166">
                      <a:moveTo>
                        <a:pt x="14" y="15"/>
                      </a:moveTo>
                      <a:lnTo>
                        <a:pt x="336" y="0"/>
                      </a:lnTo>
                      <a:lnTo>
                        <a:pt x="331" y="166"/>
                      </a:lnTo>
                      <a:lnTo>
                        <a:pt x="0" y="160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3"/>
                <p:cNvSpPr/>
                <p:nvPr/>
              </p:nvSpPr>
              <p:spPr>
                <a:xfrm>
                  <a:off x="1682280" y="1226520"/>
                  <a:ext cx="558000" cy="289800"/>
                </a:xfrm>
                <a:custGeom>
                  <a:avLst/>
                  <a:gdLst>
                    <a:gd name="textAreaLeft" fmla="*/ 0 w 558000"/>
                    <a:gd name="textAreaRight" fmla="*/ 558360 w 55800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512" h="266">
                      <a:moveTo>
                        <a:pt x="7" y="40"/>
                      </a:moveTo>
                      <a:lnTo>
                        <a:pt x="512" y="0"/>
                      </a:lnTo>
                      <a:lnTo>
                        <a:pt x="503" y="266"/>
                      </a:lnTo>
                      <a:lnTo>
                        <a:pt x="0" y="219"/>
                      </a:lnTo>
                      <a:lnTo>
                        <a:pt x="7" y="4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33"/>
              <p:cNvGrpSpPr/>
              <p:nvPr/>
            </p:nvGrpSpPr>
            <p:grpSpPr>
              <a:xfrm>
                <a:off x="715680" y="1175760"/>
                <a:ext cx="1620360" cy="382680"/>
                <a:chOff x="715680" y="1175760"/>
                <a:chExt cx="1620360" cy="382680"/>
              </a:xfrm>
            </p:grpSpPr>
            <p:grpSp>
              <p:nvGrpSpPr>
                <p:cNvPr id="386" name="Group 17"/>
                <p:cNvGrpSpPr/>
                <p:nvPr/>
              </p:nvGrpSpPr>
              <p:grpSpPr>
                <a:xfrm>
                  <a:off x="715680" y="1292040"/>
                  <a:ext cx="94320" cy="172440"/>
                  <a:chOff x="715680" y="1292040"/>
                  <a:chExt cx="94320" cy="172440"/>
                </a:xfrm>
              </p:grpSpPr>
              <p:sp>
                <p:nvSpPr>
                  <p:cNvPr id="387" name="Freeform 15"/>
                  <p:cNvSpPr/>
                  <p:nvPr/>
                </p:nvSpPr>
                <p:spPr>
                  <a:xfrm>
                    <a:off x="734040" y="1292040"/>
                    <a:ext cx="75960" cy="17244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70" h="158">
                        <a:moveTo>
                          <a:pt x="12" y="44"/>
                        </a:moveTo>
                        <a:lnTo>
                          <a:pt x="6" y="28"/>
                        </a:lnTo>
                        <a:lnTo>
                          <a:pt x="24" y="20"/>
                        </a:lnTo>
                        <a:lnTo>
                          <a:pt x="36" y="26"/>
                        </a:lnTo>
                        <a:lnTo>
                          <a:pt x="42" y="37"/>
                        </a:lnTo>
                        <a:lnTo>
                          <a:pt x="42" y="121"/>
                        </a:lnTo>
                        <a:lnTo>
                          <a:pt x="34" y="136"/>
                        </a:lnTo>
                        <a:lnTo>
                          <a:pt x="12" y="132"/>
                        </a:lnTo>
                        <a:lnTo>
                          <a:pt x="4" y="121"/>
                        </a:lnTo>
                        <a:lnTo>
                          <a:pt x="4" y="141"/>
                        </a:lnTo>
                        <a:lnTo>
                          <a:pt x="16" y="152"/>
                        </a:lnTo>
                        <a:lnTo>
                          <a:pt x="34" y="158"/>
                        </a:lnTo>
                        <a:lnTo>
                          <a:pt x="54" y="152"/>
                        </a:lnTo>
                        <a:lnTo>
                          <a:pt x="64" y="132"/>
                        </a:lnTo>
                        <a:lnTo>
                          <a:pt x="70" y="114"/>
                        </a:lnTo>
                        <a:lnTo>
                          <a:pt x="66" y="33"/>
                        </a:lnTo>
                        <a:lnTo>
                          <a:pt x="60" y="17"/>
                        </a:lnTo>
                        <a:lnTo>
                          <a:pt x="46" y="0"/>
                        </a:lnTo>
                        <a:lnTo>
                          <a:pt x="28" y="0"/>
                        </a:lnTo>
                        <a:lnTo>
                          <a:pt x="10" y="4"/>
                        </a:lnTo>
                        <a:lnTo>
                          <a:pt x="0" y="17"/>
                        </a:lnTo>
                        <a:lnTo>
                          <a:pt x="12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6"/>
                  <p:cNvSpPr/>
                  <p:nvPr/>
                </p:nvSpPr>
                <p:spPr>
                  <a:xfrm>
                    <a:off x="715680" y="1297440"/>
                    <a:ext cx="61920" cy="15840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57" h="145">
                        <a:moveTo>
                          <a:pt x="31" y="0"/>
                        </a:moveTo>
                        <a:lnTo>
                          <a:pt x="8" y="11"/>
                        </a:lnTo>
                        <a:lnTo>
                          <a:pt x="0" y="33"/>
                        </a:lnTo>
                        <a:lnTo>
                          <a:pt x="6" y="95"/>
                        </a:lnTo>
                        <a:lnTo>
                          <a:pt x="8" y="128"/>
                        </a:lnTo>
                        <a:lnTo>
                          <a:pt x="18" y="139"/>
                        </a:lnTo>
                        <a:lnTo>
                          <a:pt x="37" y="145"/>
                        </a:lnTo>
                        <a:lnTo>
                          <a:pt x="57" y="145"/>
                        </a:lnTo>
                        <a:lnTo>
                          <a:pt x="31" y="126"/>
                        </a:lnTo>
                        <a:lnTo>
                          <a:pt x="24" y="100"/>
                        </a:lnTo>
                        <a:lnTo>
                          <a:pt x="26" y="3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20"/>
                <p:cNvGrpSpPr/>
                <p:nvPr/>
              </p:nvGrpSpPr>
              <p:grpSpPr>
                <a:xfrm>
                  <a:off x="1146960" y="1249560"/>
                  <a:ext cx="115560" cy="240120"/>
                  <a:chOff x="1146960" y="1249560"/>
                  <a:chExt cx="115560" cy="240120"/>
                </a:xfrm>
              </p:grpSpPr>
              <p:sp>
                <p:nvSpPr>
                  <p:cNvPr id="390" name="Freeform 18"/>
                  <p:cNvSpPr/>
                  <p:nvPr/>
                </p:nvSpPr>
                <p:spPr>
                  <a:xfrm>
                    <a:off x="1146960" y="1249560"/>
                    <a:ext cx="115560" cy="24012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06" h="220">
                        <a:moveTo>
                          <a:pt x="23" y="18"/>
                        </a:moveTo>
                        <a:lnTo>
                          <a:pt x="32" y="5"/>
                        </a:lnTo>
                        <a:lnTo>
                          <a:pt x="55" y="0"/>
                        </a:lnTo>
                        <a:lnTo>
                          <a:pt x="78" y="5"/>
                        </a:lnTo>
                        <a:lnTo>
                          <a:pt x="100" y="16"/>
                        </a:lnTo>
                        <a:lnTo>
                          <a:pt x="106" y="40"/>
                        </a:lnTo>
                        <a:lnTo>
                          <a:pt x="102" y="176"/>
                        </a:lnTo>
                        <a:lnTo>
                          <a:pt x="95" y="209"/>
                        </a:lnTo>
                        <a:lnTo>
                          <a:pt x="68" y="220"/>
                        </a:lnTo>
                        <a:lnTo>
                          <a:pt x="38" y="220"/>
                        </a:lnTo>
                        <a:lnTo>
                          <a:pt x="17" y="209"/>
                        </a:lnTo>
                        <a:lnTo>
                          <a:pt x="0" y="191"/>
                        </a:lnTo>
                        <a:lnTo>
                          <a:pt x="0" y="176"/>
                        </a:lnTo>
                        <a:lnTo>
                          <a:pt x="21" y="187"/>
                        </a:lnTo>
                        <a:lnTo>
                          <a:pt x="44" y="196"/>
                        </a:lnTo>
                        <a:lnTo>
                          <a:pt x="62" y="187"/>
                        </a:lnTo>
                        <a:lnTo>
                          <a:pt x="78" y="176"/>
                        </a:lnTo>
                        <a:lnTo>
                          <a:pt x="80" y="142"/>
                        </a:lnTo>
                        <a:lnTo>
                          <a:pt x="80" y="33"/>
                        </a:lnTo>
                        <a:lnTo>
                          <a:pt x="66" y="22"/>
                        </a:lnTo>
                        <a:lnTo>
                          <a:pt x="45" y="24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19"/>
                  <p:cNvSpPr/>
                  <p:nvPr/>
                </p:nvSpPr>
                <p:spPr>
                  <a:xfrm>
                    <a:off x="1146960" y="1251720"/>
                    <a:ext cx="69480" cy="22032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64" h="202">
                        <a:moveTo>
                          <a:pt x="6" y="27"/>
                        </a:moveTo>
                        <a:lnTo>
                          <a:pt x="18" y="11"/>
                        </a:lnTo>
                        <a:lnTo>
                          <a:pt x="42" y="0"/>
                        </a:lnTo>
                        <a:lnTo>
                          <a:pt x="64" y="9"/>
                        </a:lnTo>
                        <a:lnTo>
                          <a:pt x="34" y="27"/>
                        </a:lnTo>
                        <a:lnTo>
                          <a:pt x="28" y="44"/>
                        </a:lnTo>
                        <a:lnTo>
                          <a:pt x="24" y="173"/>
                        </a:lnTo>
                        <a:lnTo>
                          <a:pt x="30" y="189"/>
                        </a:lnTo>
                        <a:lnTo>
                          <a:pt x="52" y="202"/>
                        </a:lnTo>
                        <a:lnTo>
                          <a:pt x="10" y="195"/>
                        </a:lnTo>
                        <a:lnTo>
                          <a:pt x="0" y="178"/>
                        </a:lnTo>
                        <a:lnTo>
                          <a:pt x="6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23"/>
                <p:cNvGrpSpPr/>
                <p:nvPr/>
              </p:nvGrpSpPr>
              <p:grpSpPr>
                <a:xfrm>
                  <a:off x="1584360" y="1233360"/>
                  <a:ext cx="115200" cy="269280"/>
                  <a:chOff x="1584360" y="1233360"/>
                  <a:chExt cx="115200" cy="269280"/>
                </a:xfrm>
              </p:grpSpPr>
              <p:sp>
                <p:nvSpPr>
                  <p:cNvPr id="393" name="Freeform 21"/>
                  <p:cNvSpPr/>
                  <p:nvPr/>
                </p:nvSpPr>
                <p:spPr>
                  <a:xfrm>
                    <a:off x="1584360" y="1233360"/>
                    <a:ext cx="115200" cy="269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269280"/>
                      <a:gd name="textAreaBottom" fmla="*/ 269640 h 269280"/>
                    </a:gdLst>
                    <a:ahLst/>
                    <a:rect l="textAreaLeft" t="textAreaTop" r="textAreaRight" b="textAreaBottom"/>
                    <a:pathLst>
                      <a:path w="106" h="247">
                        <a:moveTo>
                          <a:pt x="23" y="20"/>
                        </a:moveTo>
                        <a:lnTo>
                          <a:pt x="32" y="6"/>
                        </a:lnTo>
                        <a:lnTo>
                          <a:pt x="55" y="0"/>
                        </a:lnTo>
                        <a:lnTo>
                          <a:pt x="78" y="6"/>
                        </a:lnTo>
                        <a:lnTo>
                          <a:pt x="100" y="18"/>
                        </a:lnTo>
                        <a:lnTo>
                          <a:pt x="106" y="45"/>
                        </a:lnTo>
                        <a:lnTo>
                          <a:pt x="102" y="198"/>
                        </a:lnTo>
                        <a:lnTo>
                          <a:pt x="95" y="235"/>
                        </a:lnTo>
                        <a:lnTo>
                          <a:pt x="68" y="247"/>
                        </a:lnTo>
                        <a:lnTo>
                          <a:pt x="38" y="247"/>
                        </a:lnTo>
                        <a:lnTo>
                          <a:pt x="17" y="235"/>
                        </a:lnTo>
                        <a:lnTo>
                          <a:pt x="0" y="214"/>
                        </a:lnTo>
                        <a:lnTo>
                          <a:pt x="0" y="198"/>
                        </a:lnTo>
                        <a:lnTo>
                          <a:pt x="21" y="210"/>
                        </a:lnTo>
                        <a:lnTo>
                          <a:pt x="44" y="220"/>
                        </a:lnTo>
                        <a:lnTo>
                          <a:pt x="62" y="210"/>
                        </a:lnTo>
                        <a:lnTo>
                          <a:pt x="78" y="198"/>
                        </a:lnTo>
                        <a:lnTo>
                          <a:pt x="80" y="159"/>
                        </a:lnTo>
                        <a:lnTo>
                          <a:pt x="80" y="37"/>
                        </a:lnTo>
                        <a:lnTo>
                          <a:pt x="66" y="24"/>
                        </a:lnTo>
                        <a:lnTo>
                          <a:pt x="45" y="27"/>
                        </a:lnTo>
                        <a:lnTo>
                          <a:pt x="2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22"/>
                  <p:cNvSpPr/>
                  <p:nvPr/>
                </p:nvSpPr>
                <p:spPr>
                  <a:xfrm>
                    <a:off x="1584360" y="1234440"/>
                    <a:ext cx="69480" cy="24948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64" h="229">
                        <a:moveTo>
                          <a:pt x="6" y="31"/>
                        </a:moveTo>
                        <a:lnTo>
                          <a:pt x="18" y="12"/>
                        </a:lnTo>
                        <a:lnTo>
                          <a:pt x="42" y="0"/>
                        </a:lnTo>
                        <a:lnTo>
                          <a:pt x="64" y="10"/>
                        </a:lnTo>
                        <a:lnTo>
                          <a:pt x="34" y="31"/>
                        </a:lnTo>
                        <a:lnTo>
                          <a:pt x="28" y="50"/>
                        </a:lnTo>
                        <a:lnTo>
                          <a:pt x="24" y="196"/>
                        </a:lnTo>
                        <a:lnTo>
                          <a:pt x="30" y="215"/>
                        </a:lnTo>
                        <a:lnTo>
                          <a:pt x="52" y="229"/>
                        </a:lnTo>
                        <a:lnTo>
                          <a:pt x="10" y="221"/>
                        </a:lnTo>
                        <a:lnTo>
                          <a:pt x="0" y="202"/>
                        </a:lnTo>
                        <a:lnTo>
                          <a:pt x="6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6"/>
                <p:cNvGrpSpPr/>
                <p:nvPr/>
              </p:nvGrpSpPr>
              <p:grpSpPr>
                <a:xfrm>
                  <a:off x="2220840" y="1175760"/>
                  <a:ext cx="115200" cy="382680"/>
                  <a:chOff x="2220840" y="1175760"/>
                  <a:chExt cx="115200" cy="382680"/>
                </a:xfrm>
              </p:grpSpPr>
              <p:sp>
                <p:nvSpPr>
                  <p:cNvPr id="396" name="Freeform 24"/>
                  <p:cNvSpPr/>
                  <p:nvPr/>
                </p:nvSpPr>
                <p:spPr>
                  <a:xfrm>
                    <a:off x="2220840" y="1175760"/>
                    <a:ext cx="115200" cy="3826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382680"/>
                      <a:gd name="textAreaBottom" fmla="*/ 383040 h 382680"/>
                    </a:gdLst>
                    <a:ahLst/>
                    <a:rect l="textAreaLeft" t="textAreaTop" r="textAreaRight" b="textAreaBottom"/>
                    <a:pathLst>
                      <a:path w="106" h="351">
                        <a:moveTo>
                          <a:pt x="23" y="29"/>
                        </a:moveTo>
                        <a:lnTo>
                          <a:pt x="32" y="9"/>
                        </a:lnTo>
                        <a:lnTo>
                          <a:pt x="55" y="0"/>
                        </a:lnTo>
                        <a:lnTo>
                          <a:pt x="78" y="9"/>
                        </a:lnTo>
                        <a:lnTo>
                          <a:pt x="100" y="26"/>
                        </a:lnTo>
                        <a:lnTo>
                          <a:pt x="106" y="64"/>
                        </a:lnTo>
                        <a:lnTo>
                          <a:pt x="102" y="281"/>
                        </a:lnTo>
                        <a:lnTo>
                          <a:pt x="95" y="334"/>
                        </a:lnTo>
                        <a:lnTo>
                          <a:pt x="68" y="351"/>
                        </a:lnTo>
                        <a:lnTo>
                          <a:pt x="38" y="351"/>
                        </a:lnTo>
                        <a:lnTo>
                          <a:pt x="17" y="334"/>
                        </a:lnTo>
                        <a:lnTo>
                          <a:pt x="0" y="305"/>
                        </a:lnTo>
                        <a:lnTo>
                          <a:pt x="0" y="281"/>
                        </a:lnTo>
                        <a:lnTo>
                          <a:pt x="21" y="299"/>
                        </a:lnTo>
                        <a:lnTo>
                          <a:pt x="44" y="313"/>
                        </a:lnTo>
                        <a:lnTo>
                          <a:pt x="62" y="299"/>
                        </a:lnTo>
                        <a:lnTo>
                          <a:pt x="78" y="281"/>
                        </a:lnTo>
                        <a:lnTo>
                          <a:pt x="80" y="226"/>
                        </a:lnTo>
                        <a:lnTo>
                          <a:pt x="80" y="52"/>
                        </a:lnTo>
                        <a:lnTo>
                          <a:pt x="66" y="35"/>
                        </a:lnTo>
                        <a:lnTo>
                          <a:pt x="45" y="38"/>
                        </a:lnTo>
                        <a:lnTo>
                          <a:pt x="23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25"/>
                  <p:cNvSpPr/>
                  <p:nvPr/>
                </p:nvSpPr>
                <p:spPr>
                  <a:xfrm>
                    <a:off x="2220840" y="1177560"/>
                    <a:ext cx="69480" cy="35424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354240"/>
                      <a:gd name="textAreaBottom" fmla="*/ 354600 h 354240"/>
                    </a:gdLst>
                    <a:ahLst/>
                    <a:rect l="textAreaLeft" t="textAreaTop" r="textAreaRight" b="textAreaBottom"/>
                    <a:pathLst>
                      <a:path w="64" h="325">
                        <a:moveTo>
                          <a:pt x="6" y="44"/>
                        </a:moveTo>
                        <a:lnTo>
                          <a:pt x="18" y="18"/>
                        </a:lnTo>
                        <a:lnTo>
                          <a:pt x="42" y="0"/>
                        </a:lnTo>
                        <a:lnTo>
                          <a:pt x="64" y="15"/>
                        </a:lnTo>
                        <a:lnTo>
                          <a:pt x="34" y="44"/>
                        </a:lnTo>
                        <a:lnTo>
                          <a:pt x="28" y="70"/>
                        </a:lnTo>
                        <a:lnTo>
                          <a:pt x="24" y="278"/>
                        </a:lnTo>
                        <a:lnTo>
                          <a:pt x="30" y="305"/>
                        </a:lnTo>
                        <a:lnTo>
                          <a:pt x="52" y="325"/>
                        </a:lnTo>
                        <a:lnTo>
                          <a:pt x="10" y="313"/>
                        </a:lnTo>
                        <a:lnTo>
                          <a:pt x="0" y="287"/>
                        </a:lnTo>
                        <a:lnTo>
                          <a:pt x="6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Freeform 27"/>
                <p:cNvSpPr/>
                <p:nvPr/>
              </p:nvSpPr>
              <p:spPr>
                <a:xfrm>
                  <a:off x="1672560" y="1206000"/>
                  <a:ext cx="579600" cy="81720"/>
                </a:xfrm>
                <a:custGeom>
                  <a:avLst/>
                  <a:gdLst>
                    <a:gd name="textAreaLeft" fmla="*/ 0 w 579600"/>
                    <a:gd name="textAreaRight" fmla="*/ 579960 w 5796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532" h="75">
                      <a:moveTo>
                        <a:pt x="0" y="51"/>
                      </a:moveTo>
                      <a:lnTo>
                        <a:pt x="532" y="0"/>
                      </a:lnTo>
                      <a:lnTo>
                        <a:pt x="521" y="34"/>
                      </a:lnTo>
                      <a:lnTo>
                        <a:pt x="9" y="75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28"/>
                <p:cNvSpPr/>
                <p:nvPr/>
              </p:nvSpPr>
              <p:spPr>
                <a:xfrm>
                  <a:off x="1675800" y="1450440"/>
                  <a:ext cx="578880" cy="77400"/>
                </a:xfrm>
                <a:custGeom>
                  <a:avLst/>
                  <a:gdLst>
                    <a:gd name="textAreaLeft" fmla="*/ 0 w 578880"/>
                    <a:gd name="textAreaRight" fmla="*/ 579240 w 578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531" h="71">
                      <a:moveTo>
                        <a:pt x="0" y="0"/>
                      </a:moveTo>
                      <a:lnTo>
                        <a:pt x="520" y="41"/>
                      </a:lnTo>
                      <a:lnTo>
                        <a:pt x="531" y="71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9"/>
                <p:cNvSpPr/>
                <p:nvPr/>
              </p:nvSpPr>
              <p:spPr>
                <a:xfrm>
                  <a:off x="1243080" y="1263960"/>
                  <a:ext cx="367200" cy="47880"/>
                </a:xfrm>
                <a:custGeom>
                  <a:avLst/>
                  <a:gdLst>
                    <a:gd name="textAreaLeft" fmla="*/ 0 w 367200"/>
                    <a:gd name="textAreaRight" fmla="*/ 367560 w 36720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337" h="44">
                      <a:moveTo>
                        <a:pt x="7" y="19"/>
                      </a:moveTo>
                      <a:lnTo>
                        <a:pt x="333" y="0"/>
                      </a:lnTo>
                      <a:lnTo>
                        <a:pt x="337" y="36"/>
                      </a:lnTo>
                      <a:lnTo>
                        <a:pt x="0" y="4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0"/>
                <p:cNvSpPr/>
                <p:nvPr/>
              </p:nvSpPr>
              <p:spPr>
                <a:xfrm>
                  <a:off x="1233360" y="1435320"/>
                  <a:ext cx="371520" cy="41400"/>
                </a:xfrm>
                <a:custGeom>
                  <a:avLst/>
                  <a:gdLst>
                    <a:gd name="textAreaLeft" fmla="*/ 0 w 371520"/>
                    <a:gd name="textAreaRight" fmla="*/ 371880 w 3715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41" h="38">
                      <a:moveTo>
                        <a:pt x="9" y="0"/>
                      </a:moveTo>
                      <a:lnTo>
                        <a:pt x="336" y="7"/>
                      </a:lnTo>
                      <a:lnTo>
                        <a:pt x="341" y="38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1"/>
                <p:cNvSpPr/>
                <p:nvPr/>
              </p:nvSpPr>
              <p:spPr>
                <a:xfrm>
                  <a:off x="792000" y="1297440"/>
                  <a:ext cx="379080" cy="4680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48" h="43">
                      <a:moveTo>
                        <a:pt x="5" y="19"/>
                      </a:moveTo>
                      <a:lnTo>
                        <a:pt x="348" y="0"/>
                      </a:lnTo>
                      <a:lnTo>
                        <a:pt x="339" y="30"/>
                      </a:lnTo>
                      <a:lnTo>
                        <a:pt x="0" y="43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2"/>
                <p:cNvSpPr/>
                <p:nvPr/>
              </p:nvSpPr>
              <p:spPr>
                <a:xfrm>
                  <a:off x="774360" y="1417680"/>
                  <a:ext cx="392400" cy="3600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60" h="33">
                      <a:moveTo>
                        <a:pt x="16" y="5"/>
                      </a:moveTo>
                      <a:lnTo>
                        <a:pt x="358" y="0"/>
                      </a:lnTo>
                      <a:lnTo>
                        <a:pt x="360" y="33"/>
                      </a:lnTo>
                      <a:lnTo>
                        <a:pt x="0" y="28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41"/>
            <p:cNvGrpSpPr/>
            <p:nvPr/>
          </p:nvGrpSpPr>
          <p:grpSpPr>
            <a:xfrm>
              <a:off x="474840" y="1210680"/>
              <a:ext cx="952920" cy="1647720"/>
              <a:chOff x="474840" y="1210680"/>
              <a:chExt cx="952920" cy="1647720"/>
            </a:xfrm>
          </p:grpSpPr>
          <p:sp>
            <p:nvSpPr>
              <p:cNvPr id="405" name="Freeform 35"/>
              <p:cNvSpPr/>
              <p:nvPr/>
            </p:nvSpPr>
            <p:spPr>
              <a:xfrm>
                <a:off x="474840" y="1210680"/>
                <a:ext cx="371520" cy="34236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341" h="314">
                    <a:moveTo>
                      <a:pt x="232" y="158"/>
                    </a:moveTo>
                    <a:lnTo>
                      <a:pt x="217" y="120"/>
                    </a:lnTo>
                    <a:lnTo>
                      <a:pt x="201" y="83"/>
                    </a:lnTo>
                    <a:lnTo>
                      <a:pt x="179" y="43"/>
                    </a:lnTo>
                    <a:lnTo>
                      <a:pt x="158" y="18"/>
                    </a:lnTo>
                    <a:lnTo>
                      <a:pt x="136" y="5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0" y="7"/>
                    </a:lnTo>
                    <a:lnTo>
                      <a:pt x="27" y="29"/>
                    </a:lnTo>
                    <a:lnTo>
                      <a:pt x="11" y="59"/>
                    </a:lnTo>
                    <a:lnTo>
                      <a:pt x="0" y="92"/>
                    </a:lnTo>
                    <a:lnTo>
                      <a:pt x="0" y="129"/>
                    </a:lnTo>
                    <a:lnTo>
                      <a:pt x="11" y="179"/>
                    </a:lnTo>
                    <a:lnTo>
                      <a:pt x="32" y="226"/>
                    </a:lnTo>
                    <a:lnTo>
                      <a:pt x="54" y="258"/>
                    </a:lnTo>
                    <a:lnTo>
                      <a:pt x="83" y="285"/>
                    </a:lnTo>
                    <a:lnTo>
                      <a:pt x="120" y="309"/>
                    </a:lnTo>
                    <a:lnTo>
                      <a:pt x="156" y="314"/>
                    </a:lnTo>
                    <a:lnTo>
                      <a:pt x="183" y="314"/>
                    </a:lnTo>
                    <a:lnTo>
                      <a:pt x="205" y="307"/>
                    </a:lnTo>
                    <a:lnTo>
                      <a:pt x="217" y="291"/>
                    </a:lnTo>
                    <a:lnTo>
                      <a:pt x="233" y="269"/>
                    </a:lnTo>
                    <a:lnTo>
                      <a:pt x="239" y="231"/>
                    </a:lnTo>
                    <a:lnTo>
                      <a:pt x="242" y="201"/>
                    </a:lnTo>
                    <a:lnTo>
                      <a:pt x="280" y="221"/>
                    </a:lnTo>
                    <a:lnTo>
                      <a:pt x="328" y="231"/>
                    </a:lnTo>
                    <a:lnTo>
                      <a:pt x="341" y="215"/>
                    </a:lnTo>
                    <a:lnTo>
                      <a:pt x="339" y="194"/>
                    </a:lnTo>
                    <a:lnTo>
                      <a:pt x="298" y="179"/>
                    </a:lnTo>
                    <a:lnTo>
                      <a:pt x="255" y="172"/>
                    </a:lnTo>
                    <a:lnTo>
                      <a:pt x="232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6"/>
              <p:cNvSpPr/>
              <p:nvPr/>
            </p:nvSpPr>
            <p:spPr>
              <a:xfrm>
                <a:off x="578160" y="1595520"/>
                <a:ext cx="325800" cy="57528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575280"/>
                  <a:gd name="textAreaBottom" fmla="*/ 575640 h 575280"/>
                </a:gdLst>
                <a:ahLst/>
                <a:rect l="textAreaLeft" t="textAreaTop" r="textAreaRight" b="textAreaBottom"/>
                <a:pathLst>
                  <a:path w="299" h="527">
                    <a:moveTo>
                      <a:pt x="61" y="11"/>
                    </a:moveTo>
                    <a:lnTo>
                      <a:pt x="110" y="0"/>
                    </a:lnTo>
                    <a:lnTo>
                      <a:pt x="148" y="4"/>
                    </a:lnTo>
                    <a:lnTo>
                      <a:pt x="169" y="14"/>
                    </a:lnTo>
                    <a:lnTo>
                      <a:pt x="207" y="46"/>
                    </a:lnTo>
                    <a:lnTo>
                      <a:pt x="232" y="84"/>
                    </a:lnTo>
                    <a:lnTo>
                      <a:pt x="250" y="121"/>
                    </a:lnTo>
                    <a:lnTo>
                      <a:pt x="270" y="171"/>
                    </a:lnTo>
                    <a:lnTo>
                      <a:pt x="288" y="224"/>
                    </a:lnTo>
                    <a:lnTo>
                      <a:pt x="299" y="292"/>
                    </a:lnTo>
                    <a:lnTo>
                      <a:pt x="297" y="340"/>
                    </a:lnTo>
                    <a:lnTo>
                      <a:pt x="292" y="390"/>
                    </a:lnTo>
                    <a:lnTo>
                      <a:pt x="277" y="431"/>
                    </a:lnTo>
                    <a:lnTo>
                      <a:pt x="261" y="463"/>
                    </a:lnTo>
                    <a:lnTo>
                      <a:pt x="232" y="493"/>
                    </a:lnTo>
                    <a:lnTo>
                      <a:pt x="195" y="515"/>
                    </a:lnTo>
                    <a:lnTo>
                      <a:pt x="153" y="525"/>
                    </a:lnTo>
                    <a:lnTo>
                      <a:pt x="110" y="527"/>
                    </a:lnTo>
                    <a:lnTo>
                      <a:pt x="70" y="516"/>
                    </a:lnTo>
                    <a:lnTo>
                      <a:pt x="49" y="500"/>
                    </a:lnTo>
                    <a:lnTo>
                      <a:pt x="27" y="474"/>
                    </a:lnTo>
                    <a:lnTo>
                      <a:pt x="18" y="442"/>
                    </a:lnTo>
                    <a:lnTo>
                      <a:pt x="16" y="408"/>
                    </a:lnTo>
                    <a:lnTo>
                      <a:pt x="18" y="369"/>
                    </a:lnTo>
                    <a:lnTo>
                      <a:pt x="38" y="336"/>
                    </a:lnTo>
                    <a:lnTo>
                      <a:pt x="59" y="299"/>
                    </a:lnTo>
                    <a:lnTo>
                      <a:pt x="70" y="276"/>
                    </a:lnTo>
                    <a:lnTo>
                      <a:pt x="65" y="240"/>
                    </a:lnTo>
                    <a:lnTo>
                      <a:pt x="50" y="214"/>
                    </a:lnTo>
                    <a:lnTo>
                      <a:pt x="29" y="187"/>
                    </a:lnTo>
                    <a:lnTo>
                      <a:pt x="7" y="150"/>
                    </a:lnTo>
                    <a:lnTo>
                      <a:pt x="0" y="112"/>
                    </a:lnTo>
                    <a:lnTo>
                      <a:pt x="5" y="75"/>
                    </a:lnTo>
                    <a:lnTo>
                      <a:pt x="18" y="46"/>
                    </a:lnTo>
                    <a:lnTo>
                      <a:pt x="38" y="27"/>
                    </a:ln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7"/>
              <p:cNvSpPr/>
              <p:nvPr/>
            </p:nvSpPr>
            <p:spPr>
              <a:xfrm>
                <a:off x="648360" y="1335960"/>
                <a:ext cx="779400" cy="40464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715" h="371">
                    <a:moveTo>
                      <a:pt x="41" y="269"/>
                    </a:moveTo>
                    <a:lnTo>
                      <a:pt x="20" y="276"/>
                    </a:lnTo>
                    <a:lnTo>
                      <a:pt x="0" y="303"/>
                    </a:lnTo>
                    <a:lnTo>
                      <a:pt x="11" y="330"/>
                    </a:lnTo>
                    <a:lnTo>
                      <a:pt x="51" y="351"/>
                    </a:lnTo>
                    <a:lnTo>
                      <a:pt x="126" y="367"/>
                    </a:lnTo>
                    <a:lnTo>
                      <a:pt x="192" y="371"/>
                    </a:lnTo>
                    <a:lnTo>
                      <a:pt x="287" y="362"/>
                    </a:lnTo>
                    <a:lnTo>
                      <a:pt x="367" y="351"/>
                    </a:lnTo>
                    <a:lnTo>
                      <a:pt x="394" y="351"/>
                    </a:lnTo>
                    <a:lnTo>
                      <a:pt x="413" y="341"/>
                    </a:lnTo>
                    <a:lnTo>
                      <a:pt x="431" y="312"/>
                    </a:lnTo>
                    <a:lnTo>
                      <a:pt x="463" y="263"/>
                    </a:lnTo>
                    <a:lnTo>
                      <a:pt x="504" y="228"/>
                    </a:lnTo>
                    <a:lnTo>
                      <a:pt x="548" y="185"/>
                    </a:lnTo>
                    <a:lnTo>
                      <a:pt x="584" y="158"/>
                    </a:lnTo>
                    <a:lnTo>
                      <a:pt x="623" y="136"/>
                    </a:lnTo>
                    <a:lnTo>
                      <a:pt x="669" y="125"/>
                    </a:lnTo>
                    <a:lnTo>
                      <a:pt x="694" y="115"/>
                    </a:lnTo>
                    <a:lnTo>
                      <a:pt x="715" y="97"/>
                    </a:lnTo>
                    <a:lnTo>
                      <a:pt x="706" y="72"/>
                    </a:lnTo>
                    <a:lnTo>
                      <a:pt x="674" y="65"/>
                    </a:lnTo>
                    <a:lnTo>
                      <a:pt x="649" y="54"/>
                    </a:lnTo>
                    <a:lnTo>
                      <a:pt x="642" y="23"/>
                    </a:lnTo>
                    <a:lnTo>
                      <a:pt x="623" y="0"/>
                    </a:lnTo>
                    <a:lnTo>
                      <a:pt x="600" y="11"/>
                    </a:lnTo>
                    <a:lnTo>
                      <a:pt x="601" y="50"/>
                    </a:lnTo>
                    <a:lnTo>
                      <a:pt x="623" y="81"/>
                    </a:lnTo>
                    <a:lnTo>
                      <a:pt x="612" y="99"/>
                    </a:lnTo>
                    <a:lnTo>
                      <a:pt x="575" y="129"/>
                    </a:lnTo>
                    <a:lnTo>
                      <a:pt x="516" y="163"/>
                    </a:lnTo>
                    <a:lnTo>
                      <a:pt x="452" y="206"/>
                    </a:lnTo>
                    <a:lnTo>
                      <a:pt x="408" y="247"/>
                    </a:lnTo>
                    <a:lnTo>
                      <a:pt x="378" y="285"/>
                    </a:lnTo>
                    <a:lnTo>
                      <a:pt x="357" y="292"/>
                    </a:lnTo>
                    <a:lnTo>
                      <a:pt x="312" y="296"/>
                    </a:lnTo>
                    <a:lnTo>
                      <a:pt x="229" y="298"/>
                    </a:lnTo>
                    <a:lnTo>
                      <a:pt x="160" y="298"/>
                    </a:lnTo>
                    <a:lnTo>
                      <a:pt x="101" y="287"/>
                    </a:lnTo>
                    <a:lnTo>
                      <a:pt x="41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677520" y="1257120"/>
                <a:ext cx="409680" cy="4968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376" h="455">
                    <a:moveTo>
                      <a:pt x="32" y="325"/>
                    </a:moveTo>
                    <a:lnTo>
                      <a:pt x="4" y="332"/>
                    </a:lnTo>
                    <a:lnTo>
                      <a:pt x="0" y="357"/>
                    </a:lnTo>
                    <a:lnTo>
                      <a:pt x="21" y="391"/>
                    </a:lnTo>
                    <a:lnTo>
                      <a:pt x="64" y="416"/>
                    </a:lnTo>
                    <a:lnTo>
                      <a:pt x="113" y="439"/>
                    </a:lnTo>
                    <a:lnTo>
                      <a:pt x="186" y="455"/>
                    </a:lnTo>
                    <a:lnTo>
                      <a:pt x="274" y="455"/>
                    </a:lnTo>
                    <a:lnTo>
                      <a:pt x="295" y="453"/>
                    </a:lnTo>
                    <a:lnTo>
                      <a:pt x="301" y="405"/>
                    </a:lnTo>
                    <a:lnTo>
                      <a:pt x="310" y="341"/>
                    </a:lnTo>
                    <a:lnTo>
                      <a:pt x="312" y="268"/>
                    </a:lnTo>
                    <a:lnTo>
                      <a:pt x="315" y="228"/>
                    </a:lnTo>
                    <a:lnTo>
                      <a:pt x="322" y="196"/>
                    </a:lnTo>
                    <a:lnTo>
                      <a:pt x="342" y="180"/>
                    </a:lnTo>
                    <a:lnTo>
                      <a:pt x="376" y="171"/>
                    </a:lnTo>
                    <a:lnTo>
                      <a:pt x="374" y="153"/>
                    </a:lnTo>
                    <a:lnTo>
                      <a:pt x="317" y="153"/>
                    </a:lnTo>
                    <a:lnTo>
                      <a:pt x="304" y="118"/>
                    </a:lnTo>
                    <a:lnTo>
                      <a:pt x="288" y="96"/>
                    </a:lnTo>
                    <a:lnTo>
                      <a:pt x="285" y="68"/>
                    </a:lnTo>
                    <a:lnTo>
                      <a:pt x="299" y="43"/>
                    </a:lnTo>
                    <a:lnTo>
                      <a:pt x="322" y="37"/>
                    </a:lnTo>
                    <a:lnTo>
                      <a:pt x="328" y="20"/>
                    </a:lnTo>
                    <a:lnTo>
                      <a:pt x="299" y="4"/>
                    </a:lnTo>
                    <a:lnTo>
                      <a:pt x="261" y="0"/>
                    </a:lnTo>
                    <a:lnTo>
                      <a:pt x="240" y="11"/>
                    </a:lnTo>
                    <a:lnTo>
                      <a:pt x="224" y="43"/>
                    </a:lnTo>
                    <a:lnTo>
                      <a:pt x="213" y="64"/>
                    </a:lnTo>
                    <a:lnTo>
                      <a:pt x="220" y="96"/>
                    </a:lnTo>
                    <a:lnTo>
                      <a:pt x="231" y="128"/>
                    </a:lnTo>
                    <a:lnTo>
                      <a:pt x="258" y="159"/>
                    </a:lnTo>
                    <a:lnTo>
                      <a:pt x="283" y="177"/>
                    </a:lnTo>
                    <a:lnTo>
                      <a:pt x="285" y="214"/>
                    </a:lnTo>
                    <a:lnTo>
                      <a:pt x="279" y="284"/>
                    </a:lnTo>
                    <a:lnTo>
                      <a:pt x="272" y="337"/>
                    </a:lnTo>
                    <a:lnTo>
                      <a:pt x="252" y="389"/>
                    </a:lnTo>
                    <a:lnTo>
                      <a:pt x="242" y="394"/>
                    </a:lnTo>
                    <a:lnTo>
                      <a:pt x="186" y="389"/>
                    </a:lnTo>
                    <a:lnTo>
                      <a:pt x="134" y="375"/>
                    </a:lnTo>
                    <a:lnTo>
                      <a:pt x="102" y="353"/>
                    </a:lnTo>
                    <a:lnTo>
                      <a:pt x="68" y="337"/>
                    </a:lnTo>
                    <a:lnTo>
                      <a:pt x="32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619920" y="2030040"/>
                <a:ext cx="287640" cy="8283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264" h="759">
                    <a:moveTo>
                      <a:pt x="16" y="101"/>
                    </a:moveTo>
                    <a:lnTo>
                      <a:pt x="9" y="62"/>
                    </a:lnTo>
                    <a:lnTo>
                      <a:pt x="16" y="25"/>
                    </a:lnTo>
                    <a:lnTo>
                      <a:pt x="43" y="0"/>
                    </a:lnTo>
                    <a:lnTo>
                      <a:pt x="74" y="9"/>
                    </a:lnTo>
                    <a:lnTo>
                      <a:pt x="103" y="41"/>
                    </a:lnTo>
                    <a:lnTo>
                      <a:pt x="112" y="94"/>
                    </a:lnTo>
                    <a:lnTo>
                      <a:pt x="119" y="179"/>
                    </a:lnTo>
                    <a:lnTo>
                      <a:pt x="118" y="255"/>
                    </a:lnTo>
                    <a:lnTo>
                      <a:pt x="108" y="329"/>
                    </a:lnTo>
                    <a:lnTo>
                      <a:pt x="98" y="409"/>
                    </a:lnTo>
                    <a:lnTo>
                      <a:pt x="81" y="471"/>
                    </a:lnTo>
                    <a:lnTo>
                      <a:pt x="74" y="508"/>
                    </a:lnTo>
                    <a:lnTo>
                      <a:pt x="71" y="573"/>
                    </a:lnTo>
                    <a:lnTo>
                      <a:pt x="80" y="616"/>
                    </a:lnTo>
                    <a:lnTo>
                      <a:pt x="96" y="646"/>
                    </a:lnTo>
                    <a:lnTo>
                      <a:pt x="118" y="662"/>
                    </a:lnTo>
                    <a:lnTo>
                      <a:pt x="161" y="683"/>
                    </a:lnTo>
                    <a:lnTo>
                      <a:pt x="221" y="695"/>
                    </a:lnTo>
                    <a:lnTo>
                      <a:pt x="250" y="701"/>
                    </a:lnTo>
                    <a:lnTo>
                      <a:pt x="264" y="715"/>
                    </a:lnTo>
                    <a:lnTo>
                      <a:pt x="259" y="725"/>
                    </a:lnTo>
                    <a:lnTo>
                      <a:pt x="242" y="736"/>
                    </a:lnTo>
                    <a:lnTo>
                      <a:pt x="204" y="757"/>
                    </a:lnTo>
                    <a:lnTo>
                      <a:pt x="166" y="759"/>
                    </a:lnTo>
                    <a:lnTo>
                      <a:pt x="146" y="752"/>
                    </a:lnTo>
                    <a:lnTo>
                      <a:pt x="128" y="731"/>
                    </a:lnTo>
                    <a:lnTo>
                      <a:pt x="96" y="709"/>
                    </a:lnTo>
                    <a:lnTo>
                      <a:pt x="43" y="690"/>
                    </a:lnTo>
                    <a:lnTo>
                      <a:pt x="25" y="688"/>
                    </a:lnTo>
                    <a:lnTo>
                      <a:pt x="5" y="683"/>
                    </a:lnTo>
                    <a:lnTo>
                      <a:pt x="0" y="667"/>
                    </a:lnTo>
                    <a:lnTo>
                      <a:pt x="0" y="642"/>
                    </a:lnTo>
                    <a:lnTo>
                      <a:pt x="11" y="619"/>
                    </a:lnTo>
                    <a:lnTo>
                      <a:pt x="27" y="594"/>
                    </a:lnTo>
                    <a:lnTo>
                      <a:pt x="33" y="531"/>
                    </a:lnTo>
                    <a:lnTo>
                      <a:pt x="31" y="456"/>
                    </a:lnTo>
                    <a:lnTo>
                      <a:pt x="36" y="402"/>
                    </a:lnTo>
                    <a:lnTo>
                      <a:pt x="43" y="350"/>
                    </a:lnTo>
                    <a:lnTo>
                      <a:pt x="42" y="303"/>
                    </a:lnTo>
                    <a:lnTo>
                      <a:pt x="33" y="237"/>
                    </a:lnTo>
                    <a:lnTo>
                      <a:pt x="25" y="186"/>
                    </a:lnTo>
                    <a:lnTo>
                      <a:pt x="27" y="133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717840" y="2040120"/>
                <a:ext cx="326880" cy="726840"/>
              </a:xfrm>
              <a:custGeom>
                <a:avLst/>
                <a:gdLst/>
                <a:ahLst/>
                <a:rect l="l" t="t" r="r" b="b"/>
                <a:pathLst>
                  <a:path w="300" h="666">
                    <a:moveTo>
                      <a:pt x="65" y="0"/>
                    </a:moveTo>
                    <a:lnTo>
                      <a:pt x="108" y="44"/>
                    </a:lnTo>
                    <a:lnTo>
                      <a:pt x="133" y="90"/>
                    </a:lnTo>
                    <a:lnTo>
                      <a:pt x="154" y="143"/>
                    </a:lnTo>
                    <a:lnTo>
                      <a:pt x="171" y="207"/>
                    </a:lnTo>
                    <a:lnTo>
                      <a:pt x="178" y="273"/>
                    </a:lnTo>
                    <a:lnTo>
                      <a:pt x="172" y="335"/>
                    </a:lnTo>
                    <a:lnTo>
                      <a:pt x="165" y="399"/>
                    </a:lnTo>
                    <a:lnTo>
                      <a:pt x="156" y="462"/>
                    </a:lnTo>
                    <a:lnTo>
                      <a:pt x="140" y="523"/>
                    </a:lnTo>
                    <a:lnTo>
                      <a:pt x="138" y="560"/>
                    </a:lnTo>
                    <a:lnTo>
                      <a:pt x="144" y="579"/>
                    </a:lnTo>
                    <a:lnTo>
                      <a:pt x="176" y="586"/>
                    </a:lnTo>
                    <a:lnTo>
                      <a:pt x="225" y="592"/>
                    </a:lnTo>
                    <a:lnTo>
                      <a:pt x="280" y="608"/>
                    </a:lnTo>
                    <a:lnTo>
                      <a:pt x="289" y="622"/>
                    </a:lnTo>
                    <a:lnTo>
                      <a:pt x="300" y="654"/>
                    </a:lnTo>
                    <a:lnTo>
                      <a:pt x="295" y="664"/>
                    </a:lnTo>
                    <a:lnTo>
                      <a:pt x="273" y="666"/>
                    </a:lnTo>
                    <a:lnTo>
                      <a:pt x="226" y="655"/>
                    </a:lnTo>
                    <a:lnTo>
                      <a:pt x="181" y="634"/>
                    </a:lnTo>
                    <a:lnTo>
                      <a:pt x="135" y="629"/>
                    </a:lnTo>
                    <a:lnTo>
                      <a:pt x="108" y="627"/>
                    </a:lnTo>
                    <a:lnTo>
                      <a:pt x="79" y="616"/>
                    </a:lnTo>
                    <a:lnTo>
                      <a:pt x="74" y="597"/>
                    </a:lnTo>
                    <a:lnTo>
                      <a:pt x="79" y="574"/>
                    </a:lnTo>
                    <a:lnTo>
                      <a:pt x="97" y="542"/>
                    </a:lnTo>
                    <a:lnTo>
                      <a:pt x="113" y="505"/>
                    </a:lnTo>
                    <a:lnTo>
                      <a:pt x="122" y="422"/>
                    </a:lnTo>
                    <a:lnTo>
                      <a:pt x="122" y="363"/>
                    </a:lnTo>
                    <a:lnTo>
                      <a:pt x="122" y="319"/>
                    </a:lnTo>
                    <a:lnTo>
                      <a:pt x="119" y="273"/>
                    </a:lnTo>
                    <a:lnTo>
                      <a:pt x="108" y="234"/>
                    </a:lnTo>
                    <a:lnTo>
                      <a:pt x="95" y="188"/>
                    </a:lnTo>
                    <a:lnTo>
                      <a:pt x="65" y="143"/>
                    </a:lnTo>
                    <a:lnTo>
                      <a:pt x="41" y="108"/>
                    </a:lnTo>
                    <a:lnTo>
                      <a:pt x="11" y="64"/>
                    </a:lnTo>
                    <a:lnTo>
                      <a:pt x="0" y="34"/>
                    </a:lnTo>
                    <a:lnTo>
                      <a:pt x="11" y="5"/>
                    </a:lnTo>
                    <a:lnTo>
                      <a:pt x="3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Connettore 1 41"/>
          <p:cNvSpPr/>
          <p:nvPr/>
        </p:nvSpPr>
        <p:spPr>
          <a:xfrm>
            <a:off x="798480" y="3137040"/>
            <a:ext cx="3773520" cy="321768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onnettore 1 43"/>
          <p:cNvSpPr/>
          <p:nvPr/>
        </p:nvSpPr>
        <p:spPr>
          <a:xfrm>
            <a:off x="2847960" y="1216080"/>
            <a:ext cx="6029280" cy="36972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e 44"/>
          <p:cNvSpPr/>
          <p:nvPr/>
        </p:nvSpPr>
        <p:spPr>
          <a:xfrm>
            <a:off x="3992400" y="1967040"/>
            <a:ext cx="2894040" cy="13557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SPETT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e 45"/>
          <p:cNvSpPr/>
          <p:nvPr/>
        </p:nvSpPr>
        <p:spPr>
          <a:xfrm>
            <a:off x="4840200" y="3902040"/>
            <a:ext cx="2894040" cy="13543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ILE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asellaDiTesto 46"/>
          <p:cNvSpPr/>
          <p:nvPr/>
        </p:nvSpPr>
        <p:spPr>
          <a:xfrm rot="18176400">
            <a:off x="1242360" y="214956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NOSTRO</a:t>
            </a:r>
            <a:br>
              <a:rPr sz="18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egnaposto numero diapositiva 4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4B5-55B5-483A-A0A2-888AA662366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leve organizzativ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F412-6AE5-48D4-9B06-840938CDE63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sellaDiTesto 2"/>
          <p:cNvSpPr/>
          <p:nvPr/>
        </p:nvSpPr>
        <p:spPr>
          <a:xfrm>
            <a:off x="638640" y="1424160"/>
            <a:ext cx="837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 dell’organizzazione e adeguatezza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mbienti e strumenti sicuri e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rcolazione del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di valutazione de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per legare le ricompense a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 di formazione e mobilità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menti definiti di comunicazione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695160" y="1158840"/>
            <a:ext cx="8525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uglas McGreg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o stile di direzione di un capo è condizionato dal modo in cui egli considera la natura uma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esto determina due ipotesi sull’uomo in relazione al suo lavoro: “Teoria X” e “Teoria 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673200" y="4135320"/>
            <a:ext cx="854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obert Blake e Jane Mou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no quanto i capi considerino come fattori rilevanti per il loro successo la produzione o le pers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riglia manageri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dire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53D-1455-46BF-96EA-658A2A95696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3"/>
          <p:cNvSpPr/>
          <p:nvPr/>
        </p:nvSpPr>
        <p:spPr>
          <a:xfrm>
            <a:off x="695160" y="1014480"/>
            <a:ext cx="85251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ha una resistenza innata al lavoro e se è possibile lo eviter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causa della resistenza dell’uomo al lavoro, egli deve essere controllato, diretto o minacciato di punizioni per indurlo ad impiegare uno sforzo adeguato verso il raggiungimento degli obiettivi dell’organizz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preferisce essere diretto, desidera evitare le responsabilità, possiede un’ambizione relativamente limitata e vuole soprattutto la sicure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X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0015-08E8-4F86-908C-E128859D8C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ject 2" descr=""/>
          <p:cNvPicPr/>
          <p:nvPr/>
        </p:nvPicPr>
        <p:blipFill>
          <a:blip r:embed="rId1"/>
          <a:stretch/>
        </p:blipFill>
        <p:spPr>
          <a:xfrm>
            <a:off x="6765840" y="847800"/>
            <a:ext cx="1925640" cy="2166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915480" y="130824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S’interpre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53480" y="3133800"/>
            <a:ext cx="85291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li attori organizzativi non sono molto diversi da quelli teatr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essere efficaci entrambi hanno bisogno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nze tecnico-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lità tecnico-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ratteristiche personali ad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lità re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 e moti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5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D02-94CE-4360-9482-CC2940E3639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695160" y="1000080"/>
            <a:ext cx="8525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iego di uno sforzo fisico e mentale sul lavoro è naturale quanto il gioco e il r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 esterno e la minaccia di punizioni non sono l’unico mezzo per indurre l’uomo a lavorare verso gli obiettivi dell’organizzazione. Gli uomini si dirigeranno da sé ed eserciteranno un autocontrollo nell’intento di raggiungere gli obiettivi per i quali sono impeg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egno a raggiungere gli obiettivi è in funzione della ricompensa associata al loro ottenimento (stima ed autorealizzazione, ad es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E836-AF51-40C5-BC05-F2BD4615DD5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3"/>
          <p:cNvSpPr/>
          <p:nvPr/>
        </p:nvSpPr>
        <p:spPr>
          <a:xfrm>
            <a:off x="695160" y="1000080"/>
            <a:ext cx="852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in genere impara, in condizioni adatte non solo ad accettare ma anche a cercare le responsabi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lte persone sono dotate di un livello d’immaginazione relativamente alto, così come d’ingegnosità e di creatività nel risolvere i problemi organizz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condizioni dell’azienda moderna il potenziale intellettuale medio di una persona viene utilizzato solo parzi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C6AD-DFBF-4ED0-9B66-964EB98242E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436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446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8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38F-7FA6-4B76-8A03-3DC92A44546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D863-B69D-4693-BD95-E1C50491605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611440" y="1071720"/>
            <a:ext cx="468468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Oval 3"/>
          <p:cNvSpPr/>
          <p:nvPr/>
        </p:nvSpPr>
        <p:spPr>
          <a:xfrm>
            <a:off x="3854520" y="2687760"/>
            <a:ext cx="220032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DIMENSIONI DEL MANAGER DI SU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4952880" y="1773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4952880" y="482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"/>
          <p:cNvSpPr/>
          <p:nvPr/>
        </p:nvSpPr>
        <p:spPr>
          <a:xfrm flipH="1">
            <a:off x="2895480" y="3830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6019920" y="38307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 flipV="1">
            <a:off x="5805720" y="2465280"/>
            <a:ext cx="88524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5777280" y="4462920"/>
            <a:ext cx="7894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 flipH="1">
            <a:off x="3291480" y="4523040"/>
            <a:ext cx="883800" cy="5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1"/>
          <p:cNvSpPr/>
          <p:nvPr/>
        </p:nvSpPr>
        <p:spPr>
          <a:xfrm flipH="1" flipV="1">
            <a:off x="3238200" y="2343240"/>
            <a:ext cx="914400" cy="68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838080" y="48974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’ ES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533520" y="3525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A ASC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38080" y="1849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ESPRIMERE RICONOSC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6629400" y="20318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CRE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PIRITO DI GRUPP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7238880" y="35258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6750000" y="4821120"/>
            <a:ext cx="28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ESIGE DAI SUOI UOMINI UN LAVORO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3505320" y="573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HA STIMA DEI SUO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3003840" y="104292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OTTIENE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TTRAVERSO ALTR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ritratto del manag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0" name="Segnaposto numero diapositiva 1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3FE-E919-4C36-B3AB-FE8EFD367E7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3"/>
          <p:cNvSpPr/>
          <p:nvPr/>
        </p:nvSpPr>
        <p:spPr>
          <a:xfrm>
            <a:off x="771480" y="1523880"/>
            <a:ext cx="403848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riuni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format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scambio d’informaz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oz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5334120" y="152388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oquio individu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perativo/decis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bias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assegnazione degli obietti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valutazione dei risult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ipli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46C8-E487-4001-B765-7699B90493A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3"/>
          <p:cNvSpPr/>
          <p:nvPr/>
        </p:nvSpPr>
        <p:spPr>
          <a:xfrm>
            <a:off x="83808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’affrontare riunioni e colloqui il responsabile dovr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714240" y="2397240"/>
            <a:ext cx="84582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chiaramente i propr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parare adeguatamente il materiale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re sempre con anticipo salvo emer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re tutto il tempo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re la partecipazione e il coinvolgimento de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ludere ogni evento chiarendo a tutti i partecipanti i risultati em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8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A5F-F6C3-4B34-86BD-1FF90DFE58B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3"/>
          <p:cNvSpPr/>
          <p:nvPr/>
        </p:nvSpPr>
        <p:spPr>
          <a:xfrm>
            <a:off x="838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pend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14240" y="2397240"/>
            <a:ext cx="8458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 ogni occasione organizzativa gli è richie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trasmettere i valori e la mission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preoccuparsi della crescita e dell’apprendimento dei propri collaboratori in termini di contenuti e di me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captare i segnali inviati dal gruppo o dal sing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non lasciare cadere nessuna sollecitazione rispetto al suo ruolo o al clima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1F6-F0FF-4B06-9887-84652347AC9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4" name="Segnaposto numero diapositiva 2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AC3C-0B07-4AE3-A9AD-8F8FF086AF2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riangolo isoscele 3"/>
          <p:cNvSpPr/>
          <p:nvPr/>
        </p:nvSpPr>
        <p:spPr>
          <a:xfrm>
            <a:off x="1157400" y="111132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onnettore 1 5"/>
          <p:cNvSpPr/>
          <p:nvPr/>
        </p:nvSpPr>
        <p:spPr>
          <a:xfrm flipH="1">
            <a:off x="2082960" y="111060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nettore 1 7"/>
          <p:cNvSpPr/>
          <p:nvPr/>
        </p:nvSpPr>
        <p:spPr>
          <a:xfrm>
            <a:off x="2997360" y="111132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nettore 1 8"/>
          <p:cNvSpPr/>
          <p:nvPr/>
        </p:nvSpPr>
        <p:spPr>
          <a:xfrm flipH="1">
            <a:off x="2743200" y="111060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onnettore 1 9"/>
          <p:cNvSpPr/>
          <p:nvPr/>
        </p:nvSpPr>
        <p:spPr>
          <a:xfrm>
            <a:off x="2996640" y="111132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e 29"/>
          <p:cNvSpPr/>
          <p:nvPr/>
        </p:nvSpPr>
        <p:spPr>
          <a:xfrm>
            <a:off x="2951280" y="380844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sellaDiTesto 38"/>
          <p:cNvSpPr/>
          <p:nvPr/>
        </p:nvSpPr>
        <p:spPr>
          <a:xfrm>
            <a:off x="5532480" y="1655640"/>
            <a:ext cx="410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ar lavo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lorizz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g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evolare il lavoro 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762120" y="1835280"/>
            <a:ext cx="84582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iesce ad inserirsi positivamente tra 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aggiunge i livelli di prestazione richiesti dal Respons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è d’accordo con i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antip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fortemente sindaca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 è il dipendente difficile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207-098F-4CF2-ACE6-0F033E6EA3F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88880" y="3279600"/>
            <a:ext cx="51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in relazione con altri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35040" y="4800600"/>
            <a:ext cx="46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...per raggiungere un obiet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85920" y="1679400"/>
            <a:ext cx="29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S’interpre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5" descr=""/>
          <p:cNvPicPr/>
          <p:nvPr/>
        </p:nvPicPr>
        <p:blipFill>
          <a:blip r:embed="rId1"/>
          <a:stretch/>
        </p:blipFill>
        <p:spPr>
          <a:xfrm>
            <a:off x="5479920" y="1198440"/>
            <a:ext cx="4046760" cy="2459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5791320" y="3886200"/>
            <a:ext cx="3809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li obiettivi di ciascuno sono lo strumento per trasformare in realtà la missione dell’organ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3A6B-1102-41F6-A303-78627B43DF7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Object 3" descr=""/>
          <p:cNvPicPr/>
          <p:nvPr/>
        </p:nvPicPr>
        <p:blipFill>
          <a:blip r:embed="rId1"/>
          <a:stretch/>
        </p:blipFill>
        <p:spPr>
          <a:xfrm>
            <a:off x="4562640" y="2781360"/>
            <a:ext cx="1604880" cy="157644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1081080" y="1432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INUZIONE DEL 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6524640" y="142884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QUALITA’ DE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7223040" y="2143080"/>
            <a:ext cx="23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DENZE NON RISPET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7315200" y="299736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O SPIRITO D’INIZ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7147080" y="383544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UGA DAI COMPITI PIU’ DIFFIC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394160" y="5584680"/>
            <a:ext cx="18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O DI LAMEN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952560" y="4000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ENO INTERAZIONE CON 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738360" y="31845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CATO RISPETTO DELLE DIRE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760320" y="227016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EGGIAMENTO IRRITABILE E DIFEN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6431040" y="5359320"/>
            <a:ext cx="27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COLLABORATIV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038480" y="914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RIBUZIONE DI RESPONSABILITA’ A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918480" y="4597560"/>
            <a:ext cx="23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ROVABILE QUANDO 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1332000" y="478620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EEDBACK NEGATIVI IN A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077560" y="55720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NTE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sintom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3" name="Segnaposto numero diapositiva 1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15C-AB03-4F91-B431-E8E67DD0B6D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685800" y="1000080"/>
            <a:ext cx="84582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OTTARE MISURE CORRETTIVE E NON PUNITIVE (quali sono gli obiettivi del Responsabil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FORMARE OGNI EVENTO ORGANIZZATIVO IN OCCASIONE D’APPRENDIMENTO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coaching e counseling per i propri collabora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SERE RISOLUTI (non ritardare l’intervento), GIUSTI (né lassismo, né accanimento), SINCERAMENTE INTERESSATI (il vostro collaboratore è una per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ROGARE UN PROVVEDIMENTO DISCIPLINARE SOLO SE TUTTO QUESTO NON FUNZI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principi fondament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B46-637A-470D-ABAD-023A33A344D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Terz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0" name="Rettangolo 2"/>
          <p:cNvSpPr/>
          <p:nvPr/>
        </p:nvSpPr>
        <p:spPr>
          <a:xfrm>
            <a:off x="752400" y="1162080"/>
            <a:ext cx="84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allone definisce la motivazione come un complesso processo di forze che attivano, dirigono e sostengono il comportamento e la motivazione al lavoro come l'insieme delle variabili in grado di dar conto del dispiegamento delle energie psicofisiche nell'attività professionale e dell'intensità e persistenza di questo inves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776160" y="5639400"/>
            <a:ext cx="8356680" cy="3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VALLONE F. (1994) "Psicologia del lavoro", La Nuova Italia Scientif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20F-83F8-4663-BCD2-EB221C368BB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4" name="Rettangolo 2"/>
          <p:cNvSpPr/>
          <p:nvPr/>
        </p:nvSpPr>
        <p:spPr>
          <a:xfrm>
            <a:off x="752400" y="1162080"/>
            <a:ext cx="84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e si nota, la motiv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trinseca all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determinabile dall’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 essere aumentata dal contest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, allo stesso modo, essere depr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88D-C205-47AA-ACEB-12536B4F5AD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attori motivanti e fattori igienic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085-C9A4-4A48-BE87-D68998DA3AB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2103480" y="669960"/>
          <a:ext cx="6276960" cy="57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3480" y="669960"/>
                    <a:ext cx="627696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teorie del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3400" y="1219320"/>
          <a:ext cx="8542440" cy="4570200"/>
        </p:xfrm>
        <a:graphic>
          <a:graphicData uri="http://schemas.openxmlformats.org/drawingml/2006/table">
            <a:tbl>
              <a:tblPr/>
              <a:tblGrid>
                <a:gridCol w="3508560"/>
                <a:gridCol w="2314440"/>
                <a:gridCol w="2719440"/>
              </a:tblGrid>
              <a:tr h="2174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MAS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HERZBE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52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AUTO- REALIZZAZIONE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MPLE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 MOTIVAZI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L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AL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OPPORTUNITA' DI SVILUP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SPONSABILIT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IMA 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ROMO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ICONOS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ENSO DI APPARTENENZA E ATTIVITA' SOC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GIE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APPORTI INTERPERS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LLEG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DIPEN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rowSpan="3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OPRAVVIVENZA E SICUREZ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OLITICA E GESTIONE AZIEN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CUREZZA SUL POSTO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BISOGNI FISIOLOG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NDIZION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TRIBU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STEMA DI VITA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8B42-5E10-439F-8007-8D46E1E6959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54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D9B5-2416-4D93-BE5E-24A2E01AE2B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sellaDiTesto 4"/>
          <p:cNvSpPr/>
          <p:nvPr/>
        </p:nvSpPr>
        <p:spPr>
          <a:xfrm>
            <a:off x="714960" y="221472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PARLATE E ASCOL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sellaDiTesto 5"/>
          <p:cNvSpPr/>
          <p:nvPr/>
        </p:nvSpPr>
        <p:spPr>
          <a:xfrm>
            <a:off x="1305000" y="27226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TE COSA VOGL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ARATE A CONOSCER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asellaDiTesto 6"/>
          <p:cNvSpPr/>
          <p:nvPr/>
        </p:nvSpPr>
        <p:spPr>
          <a:xfrm>
            <a:off x="756720" y="3927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asellaDiTesto 7"/>
          <p:cNvSpPr/>
          <p:nvPr/>
        </p:nvSpPr>
        <p:spPr>
          <a:xfrm>
            <a:off x="1297800" y="4435560"/>
            <a:ext cx="72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SU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PER GLI AMBITI FAMILIARI ED EXTRA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1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F15E-28A4-4AFA-8ECE-C6887DF87F2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asellaDiTesto 4"/>
          <p:cNvSpPr/>
          <p:nvPr/>
        </p:nvSpPr>
        <p:spPr>
          <a:xfrm>
            <a:off x="785880" y="2338560"/>
            <a:ext cx="43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MANTENERE UN CLIMA 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sellaDiTesto 5"/>
          <p:cNvSpPr/>
          <p:nvPr/>
        </p:nvSpPr>
        <p:spPr>
          <a:xfrm>
            <a:off x="990360" y="2859120"/>
            <a:ext cx="802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FINIRE E ALLINEARE I VAL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TRUIRE UN AMBIENTE PIAC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INVOLGERE E LEGARE ALL’ORGANIZZAZIONE E A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6"/>
          <p:cNvSpPr/>
          <p:nvPr/>
        </p:nvSpPr>
        <p:spPr>
          <a:xfrm>
            <a:off x="776520" y="4456080"/>
            <a:ext cx="30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TENERE AL COR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asellaDiTesto 7"/>
          <p:cNvSpPr/>
          <p:nvPr/>
        </p:nvSpPr>
        <p:spPr>
          <a:xfrm>
            <a:off x="971280" y="4976640"/>
            <a:ext cx="583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I RISULTATI E I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LE DECISIONI 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8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BE7-75D2-4D7A-950F-CFB92A0D0B3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6457680" y="120348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sellaDiTesto 3"/>
          <p:cNvSpPr/>
          <p:nvPr/>
        </p:nvSpPr>
        <p:spPr>
          <a:xfrm>
            <a:off x="724680" y="2349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SSISTERE E CONSIG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sellaDiTesto 4"/>
          <p:cNvSpPr/>
          <p:nvPr/>
        </p:nvSpPr>
        <p:spPr>
          <a:xfrm>
            <a:off x="908280" y="2859120"/>
            <a:ext cx="59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D’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CORAGG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DURRE ATTRAVERSO L’ORGAN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asellaDiTesto 5"/>
          <p:cNvSpPr/>
          <p:nvPr/>
        </p:nvSpPr>
        <p:spPr>
          <a:xfrm>
            <a:off x="694800" y="4376880"/>
            <a:ext cx="45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DARE OPPORTUNITA’ DI CRES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asellaDiTesto 6"/>
          <p:cNvSpPr/>
          <p:nvPr/>
        </p:nvSpPr>
        <p:spPr>
          <a:xfrm>
            <a:off x="920880" y="4886280"/>
            <a:ext cx="738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DIRIZZARE LA CARRIERA IN VERT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E SPIEGARE LA MOBILITA’ INTERFU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REARE E OFFRIRE OPPORTUNITA’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6400800" y="1449000"/>
            <a:ext cx="3200400" cy="142632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Quali sono le fasi del processo produttiv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3681360" y="900000"/>
            <a:ext cx="309096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Di chi è la responsabilit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6200640" y="4286160"/>
            <a:ext cx="327672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osa succede se lavoro be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381720" y="3200400"/>
            <a:ext cx="337176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osa vi aspettate da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2692440" y="4872600"/>
            <a:ext cx="4282920" cy="142632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Ho tutte le informazioni che mi servono, quando mi serv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85800" y="909720"/>
            <a:ext cx="2819520" cy="10666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hi fa che co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ject 8" descr=""/>
          <p:cNvPicPr/>
          <p:nvPr/>
        </p:nvPicPr>
        <p:blipFill>
          <a:blip r:embed="rId1"/>
          <a:stretch/>
        </p:blipFill>
        <p:spPr>
          <a:xfrm>
            <a:off x="4524480" y="2209680"/>
            <a:ext cx="1116000" cy="2400480"/>
          </a:xfrm>
          <a:prstGeom prst="rect">
            <a:avLst/>
          </a:prstGeom>
          <a:ln w="0">
            <a:noFill/>
          </a:ln>
        </p:spPr>
      </p:pic>
      <p:sp>
        <p:nvSpPr>
          <p:cNvPr id="210" name="Oval 9"/>
          <p:cNvSpPr/>
          <p:nvPr/>
        </p:nvSpPr>
        <p:spPr>
          <a:xfrm>
            <a:off x="125280" y="3823920"/>
            <a:ext cx="3589560" cy="142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Abbiamo tutte le conoscenze che occorr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26880" y="2251800"/>
            <a:ext cx="3689640" cy="142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Quali sono i livelli qualitativi che devo rispett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3246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finestra sul tema dell’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6227-86BA-4A30-A905-63DE5CFA3DF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3DB-5EEC-4A8A-8CC3-D60D9711FAD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6529320" y="107172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asellaDiTesto 3"/>
          <p:cNvSpPr/>
          <p:nvPr/>
        </p:nvSpPr>
        <p:spPr>
          <a:xfrm>
            <a:off x="718560" y="23493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CEDERE 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asellaDiTesto 4"/>
          <p:cNvSpPr/>
          <p:nvPr/>
        </p:nvSpPr>
        <p:spPr>
          <a:xfrm>
            <a:off x="929160" y="2859120"/>
            <a:ext cx="86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’ORGANIZZAZIONE DEL PROPRIO LAVORO E DEI PROPRI SP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MESSA IN DISCUSSIONE DELLE REG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DEFINIZIONE DEL PROPRIO STILE NEL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asellaDiTesto 5"/>
          <p:cNvSpPr/>
          <p:nvPr/>
        </p:nvSpPr>
        <p:spPr>
          <a:xfrm>
            <a:off x="729720" y="4376880"/>
            <a:ext cx="34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RRICCHIRE LE MA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asellaDiTesto 6"/>
          <p:cNvSpPr/>
          <p:nvPr/>
        </p:nvSpPr>
        <p:spPr>
          <a:xfrm>
            <a:off x="947520" y="4886280"/>
            <a:ext cx="717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QUANTO TEMPO FA LO STESSO LAVO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QUALE DIREZIONE POTREBBE ESSERE ARRICCH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A GLI PIACEREBBE 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94EE-F38E-441E-9BCE-9DEE10FBAB5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744480" y="928800"/>
            <a:ext cx="84758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SA DELEG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i che prendete con maggior freq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tecnico special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per cui siete meno qualif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unzioni che non vi piacci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procurano esperienza o crescita professionale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aggiungono varietà alla routine lav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à che completerebbero una 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3"/>
          <p:cNvSpPr/>
          <p:nvPr/>
        </p:nvSpPr>
        <p:spPr>
          <a:xfrm>
            <a:off x="0" y="737244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ei livelli di aut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C5A1-E428-4102-925B-4A3BA3A0C8C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57200" y="952560"/>
          <a:ext cx="9067680" cy="5411880"/>
        </p:xfrm>
        <a:graphic>
          <a:graphicData uri="http://schemas.openxmlformats.org/drawingml/2006/table">
            <a:tbl>
              <a:tblPr/>
              <a:tblGrid>
                <a:gridCol w="1154160"/>
                <a:gridCol w="3792600"/>
                <a:gridCol w="4120920"/>
              </a:tblGrid>
              <a:tr h="7887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ivello di autorit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NCAR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MOT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nalizza la situazione. Trova tutti i dati possibili e fammi un rapporto. Deciderò io il da fars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avoratore inesperto. Il capo vuole mantenere il controllo sui risulta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dentifica il problema. Stabilisci soluzioni alternative con pro e contro e sottoponine una alla mia approvazion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ollaboratore è in fase di sviluppo ed il capo vuole vedere come affronta i problemi e come prende le decisio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Esamina i problemi. Fammi sapere cosa intendi fare ma non agire senza avermi consultat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apo ha fiducia ma non vuole che si agisca senza la sua approvazione. Può dipendere da vincoli aziendali o con partner ester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Risolvi il problema. Fammi sapere come intendi procedere e vai a meno che io non mi oppong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rispetta l’abilità ed il giudizio del dipendente. Si riserva solo un controllo finale prima delle operazion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ai qualcosa in proposito ed informami su come è andat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ha piena fiducia. Desidera solo essere informato degli esi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gisci. Non hai bisogno di altri contatti con m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iducia totale con completa autorità per il collaborato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38ED-5143-4B76-9CEA-77B207EE987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595440" y="857160"/>
            <a:ext cx="83660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 DI DELEGA PER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ire, mettere in comune obiettivi, autonomie, autorità, controlli, criter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ttenere responsabilizzazione e coinvolgimento su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INCARICHI GENE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ingono il collaboratore a chiedere chiarimenti in iti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sciano pericolose zone d’ombra per la fas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giche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376-DB7F-4B80-AAEB-77CEFE3F500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750960" y="844560"/>
            <a:ext cx="89154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A MIA DIS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138320" y="3000240"/>
            <a:ext cx="80564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UNA TUA RISORSA PER IL LAVORO CHE TI HO ASSEGN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806400" y="1706400"/>
            <a:ext cx="886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i miei ritardi, posso seguire le mie urg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causo perdite di tempo ai miei collabo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63480" y="4294080"/>
            <a:ext cx="8861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perdite di tempo ai collaboratori, li costringo ad organizzare il loro tempo e a finalizzarne l’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rischio ritardi su urgenze emergenti, ho meno margini di recupero sulle mie effici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2B90-872B-4BD6-AD9C-7E41AA89463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809640" y="1147680"/>
            <a:ext cx="792468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 DELLA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ULTATI VOL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ERI DI MI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ORSE DISPONIBILI E VIN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REZIONALITA’, AUTOR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880920" y="1162080"/>
            <a:ext cx="777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esecu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icinanza temporale al momento d’assegnazione del comp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à d’intervento de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bligo di reportistica immediato da parte del subordinato in cas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73E-09CE-4780-96D2-5BFA7A9D4A1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1066680" y="1200240"/>
            <a:ext cx="7772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VERIFICA D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o funzioni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locazione temporale concordata e distante dal momento d’asseg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etto del margine di discrezionalità affidato al collaboratore salvo gravi situ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port concordati a scadenza periodica salvo situazioni di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23E0-7DFE-439E-B27C-4719B7714EC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quenze dell’apprendi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4E1E-3018-4A32-9FAE-833009ADAAA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2"/>
          <p:cNvSpPr/>
          <p:nvPr/>
        </p:nvSpPr>
        <p:spPr>
          <a:xfrm>
            <a:off x="857160" y="1019160"/>
            <a:ext cx="330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SPERI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sellaDiTesto 3"/>
          <p:cNvSpPr/>
          <p:nvPr/>
        </p:nvSpPr>
        <p:spPr>
          <a:xfrm>
            <a:off x="5627520" y="1309680"/>
            <a:ext cx="3759480" cy="4483080"/>
          </a:xfrm>
          <a:prstGeom prst="rect">
            <a:avLst/>
          </a:prstGeom>
          <a:noFill/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CONDO KOLB ESISTONO 4 STILI DI APPRENDIMENTO CHE SI CARATTERIZZANO PER LA SEQUENZA IN CUI GRADISCONO SIANO DISPOSTE LE F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Quart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85800" y="928800"/>
            <a:ext cx="853452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L’ORGANIZZAZIONE AZIENDALE NON E’ DEFINITA NON POSSO ASPETTARMI CHE LE PERSONE SEGUANO UN COPIONE PRESTABI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ASCUNO RECITERA’ A SOGGETTO, SECONDO LA PROPRIA SENSIBILITA’ INDIPENDENTEMENTE DALL’EFFICIACIA E DALL’EFFICIENZA DEI COMPORTAMENTI, RISPETTO AL RAGGIUNGIMENTO DEGLI OBIET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in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235E-CA54-4933-890C-5BEEBE69FB8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3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DC6B-9BD6-4FAE-A645-90F6862DD5F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6696000" y="1203480"/>
            <a:ext cx="3071880" cy="1053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Valutare corret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conoscere i mer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feedback positivi e nega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sellaDiTesto 4"/>
          <p:cNvSpPr/>
          <p:nvPr/>
        </p:nvSpPr>
        <p:spPr>
          <a:xfrm>
            <a:off x="911520" y="206856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VALUTARE CORRET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5"/>
          <p:cNvSpPr/>
          <p:nvPr/>
        </p:nvSpPr>
        <p:spPr>
          <a:xfrm>
            <a:off x="1145880" y="2577960"/>
            <a:ext cx="50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CENTRARSI SULLA PRE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DISPORRE STRUMENTI AFFID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EQ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asellaDiTesto 6"/>
          <p:cNvSpPr/>
          <p:nvPr/>
        </p:nvSpPr>
        <p:spPr>
          <a:xfrm>
            <a:off x="936000" y="409572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CONOSCERE I MER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asellaDiTesto 7"/>
          <p:cNvSpPr/>
          <p:nvPr/>
        </p:nvSpPr>
        <p:spPr>
          <a:xfrm>
            <a:off x="1131840" y="4605480"/>
            <a:ext cx="803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E IL DIPENDENTE SE LO ASPETTA NON E’ PIU’ UN COMP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 RICONOSCIMENTI DEVONO SODDISFARE 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 ANCHE I DESIDERI DEI 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ARE LE MODALITA’ DI RICONOS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DE0D-6433-4484-8D73-9AE51E34F54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sellaDiTesto 4"/>
          <p:cNvSpPr/>
          <p:nvPr/>
        </p:nvSpPr>
        <p:spPr>
          <a:xfrm>
            <a:off x="692640" y="10764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1b587c"/>
                </a:solidFill>
                <a:uFillTx/>
                <a:latin typeface="Arial"/>
              </a:rPr>
              <a:t>DARE FEEDBAC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465840" y="228600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EEDBACK: informazioni o dati di ritorno forniti dall’altr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896400" y="3809880"/>
            <a:ext cx="80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: giudizio s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022760" y="533412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: giudizio 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s’è un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6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4E08-7A5D-4F9D-90B4-A860DAFDFB1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Object 2" descr=""/>
          <p:cNvPicPr/>
          <p:nvPr/>
        </p:nvPicPr>
        <p:blipFill>
          <a:blip r:embed="rId1"/>
          <a:stretch/>
        </p:blipFill>
        <p:spPr>
          <a:xfrm>
            <a:off x="1209600" y="888840"/>
            <a:ext cx="7477200" cy="574056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e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D05F-D8B8-46CE-9524-DF83C5B04E5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1402200" y="14112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/>
          <p:cNvSpPr/>
          <p:nvPr/>
        </p:nvSpPr>
        <p:spPr>
          <a:xfrm>
            <a:off x="7120080" y="42670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5885640" y="14112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127160" y="308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749880" y="339264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LL’OPIN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8"/>
          <p:cNvSpPr/>
          <p:nvPr/>
        </p:nvSpPr>
        <p:spPr>
          <a:xfrm>
            <a:off x="227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858600" y="54864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IL GIUD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SENSO DI CO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0"/>
          <p:cNvSpPr/>
          <p:nvPr/>
        </p:nvSpPr>
        <p:spPr>
          <a:xfrm>
            <a:off x="7120080" y="22096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6090120" y="339264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I 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2"/>
          <p:cNvSpPr/>
          <p:nvPr/>
        </p:nvSpPr>
        <p:spPr>
          <a:xfrm>
            <a:off x="2278080" y="42670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5318280" y="548640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LA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FE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personale e identità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AB6-2C9A-421C-BD4B-5D370636216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528480" y="928800"/>
            <a:ext cx="906804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SPECIFICI  E FOCALIZZATI SULLA PRES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FATTI O ESEMPI A SOSTEGNO DELLA VOSTRA 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PRIMETE APPREZZAMENTO QUANDO FORNITE UN FEED BACK SULLE SITUAZIONI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ANIFESTATE PREOCCUPAZIONE QUANDO FORNITE FEED BACK SULLE SITUAZIONI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DIRETTI E SINC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PERS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TEMPES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TERVENITE EQUAMENTE SIA PER I FATTI POSITIVI CHE PER QUELLI N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er fornire un feedback costru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30AA-4EBD-4972-94A9-0C92CDD3D6D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528480" y="928800"/>
            <a:ext cx="906804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SIATE GENERICI MA ANALIZZATE LA SITUAZIONE POSITIVA METTENDONE A FUOCO I COMPORTAMENTI ECCELL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CONOSCETE LO SFORZO COMPIUTO SE LA SITUAZIONE POSITIVA E’ A VALLE DI UNA CRITICA RICEV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ALORIZZATE E RINFORZATE LE PRESTAZIONI SOPRA LA MEDIA CON GLI STRUMENTI CHE AVETE 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OTIVATE LA RISORSA A PROSEGUIRE NEGLI SFORZI PROSPETTANDO I POSSIBILI SVILUPP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E CONFERITE UN AUMENTO RETRIBUTIVO O UN PREMIO METTETELO IN RELAZIONE IL PIU’ POSSIBILE AD EVENTI PRECISI E NON AD UN GENERICO MIGLIO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date un feedback posi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C0F3-E135-4EF7-BC53-FD41FA2FA49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395360" y="4238640"/>
            <a:ext cx="21589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3"/>
          <p:cNvSpPr/>
          <p:nvPr/>
        </p:nvSpPr>
        <p:spPr>
          <a:xfrm>
            <a:off x="6705720" y="2514600"/>
            <a:ext cx="2536560" cy="26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/>
          <p:cNvSpPr/>
          <p:nvPr/>
        </p:nvSpPr>
        <p:spPr>
          <a:xfrm>
            <a:off x="822240" y="1000080"/>
            <a:ext cx="3305160" cy="204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 flipV="1">
            <a:off x="4114800" y="449532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4495680" y="220968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>
            <a:off x="2400480" y="32860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re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6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FBBC-1D68-411D-9C8A-8614AA62985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624960" y="1182600"/>
            <a:ext cx="114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09480" y="2021040"/>
            <a:ext cx="8686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TE LA DOCUMENTAZIONE PERTINENTE DA MOSTRARE AL 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SSATE DATA E ORA DELLA RIUNIONE MANTENENDO LA RISERVATEZZA CON ALTRI NON INTERE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ULTATE IN ANTICIPO ALTRE PARTI IN CAUSA A SECONDA DELLA VOSTRA REALTA’ AZIEN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TE DI PREVEDERE LE POSSIBILI REAZIONI DEL DIPENDENTE E LE CRITICITA’ INSITE NEL 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l cop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6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F87C-3D43-491F-94FF-6B6EDDFABB3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074240" y="116676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MAPPA PER GESTIRE LE SITUAZIONI CR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95256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91440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"/>
          <p:cNvSpPr/>
          <p:nvPr/>
        </p:nvSpPr>
        <p:spPr>
          <a:xfrm>
            <a:off x="601992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601992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6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07E-498A-42A9-B969-1E4CFB01571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sercitazione: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741240" y="868320"/>
          <a:ext cx="837900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868320"/>
                    <a:ext cx="8379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C4CF-A118-422B-BA62-6CBF4B85FF4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Oval 3"/>
          <p:cNvSpPr/>
          <p:nvPr/>
        </p:nvSpPr>
        <p:spPr>
          <a:xfrm>
            <a:off x="304920" y="1409760"/>
            <a:ext cx="27432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3676680" y="101916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OSTRARE INTERESSE PER L’OPINIONE DEL COLLABORATORE E DISPONIBILITA’ ALL’ASCO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AREE DI DISCORD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ERCARNE INSIEME I MOTIVI PORTANDO DATI DI REALTA’, STIMOLANDO 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PO IL CONFRONTO CHIARIRE GLI ASPETTI SU CUI SI CONCORDA E QUELLI CHE RIMANGONO DA CHIA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28480" y="4357800"/>
            <a:ext cx="906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RIGIDIRSI SULLE PROPRIE POS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ORRE LA PROPRIA OPINIONE ATTRAVERSO I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ACCUS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MANIPOLA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7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8968-C785-4445-A445-B41B4C307F9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Oval 3"/>
          <p:cNvSpPr/>
          <p:nvPr/>
        </p:nvSpPr>
        <p:spPr>
          <a:xfrm>
            <a:off x="457200" y="4514760"/>
            <a:ext cx="25146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457200" y="1033560"/>
            <a:ext cx="906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MPRENDERNE LE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IRCOSCRIVERE LA CONFLITTUALITA’ SU TEMI SPECIFICI UTILIZZANDO SIA STRUMENTI PROFESSIONALI CHE GERARCH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GLI ASPETTI POSITIVI PRES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RIENTARE IL CONFRONTO SU DATI DI REALTA’, FATTI E COMPORT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CCOGLIERE, ANCHE SE ENTRO LIMITI DEFINITI, L’AGGRESSIVITA’ ESP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267000" y="4403880"/>
            <a:ext cx="601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COMPORTAMENTI SIMMET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ACCOGLIERE LA SF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RE I TEMPI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VALUTAZIONI 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7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9AE-D416-4D18-BF57-50F0FAE1D39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Oval 3"/>
          <p:cNvSpPr/>
          <p:nvPr/>
        </p:nvSpPr>
        <p:spPr>
          <a:xfrm>
            <a:off x="6781680" y="1428840"/>
            <a:ext cx="2819520" cy="175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485640" y="1071720"/>
            <a:ext cx="632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RE DATI, INFORMAZIONI, OPIN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IMOLARE CON D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A DIFFICOLTA’ DI OFFRIRE UN FEED BACK DI SUPPORTO SE MANCA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OPPOERTUNITA’ OFFERTE DAL COLLOQUIO E DA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523800" y="40719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 LA SITUAZIONE CHIUDENDO IL COLLOQUIO SENZA AFFRONTARE LA QU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ESORTATIVI O DI COLPEVO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RASFORMARE IL COLLOQUIO IN UN MONO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8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49AE-6117-48BD-AD08-50C42B6CCB5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Oval 3"/>
          <p:cNvSpPr/>
          <p:nvPr/>
        </p:nvSpPr>
        <p:spPr>
          <a:xfrm>
            <a:off x="1417680" y="1171440"/>
            <a:ext cx="266688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881680" y="1171440"/>
            <a:ext cx="2895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ITA’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659880" y="2892600"/>
            <a:ext cx="43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U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112040" y="39290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508320" y="541512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COLL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i entram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8"/>
          <p:cNvSpPr/>
          <p:nvPr/>
        </p:nvSpPr>
        <p:spPr>
          <a:xfrm>
            <a:off x="5181480" y="2876400"/>
            <a:ext cx="76320" cy="3657600"/>
          </a:xfrm>
          <a:custGeom>
            <a:avLst/>
            <a:gdLst>
              <a:gd name="textAreaLeft" fmla="*/ 48960 w 76320"/>
              <a:gd name="textAreaRight" fmla="*/ 76320 w 763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5879160" y="280044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loccare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udere la re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motivare il collabo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5568840" y="3867120"/>
            <a:ext cx="39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trapposizione fro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orso a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osta sul pian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mento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5383080" y="5322960"/>
            <a:ext cx="40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liminare dati non conferm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gare il proprio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untare sulla relazione aff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17D-F20D-4AD4-8211-EDB4BEA283F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Object 3" descr=""/>
          <p:cNvPicPr/>
          <p:nvPr/>
        </p:nvPicPr>
        <p:blipFill>
          <a:blip r:embed="rId1"/>
          <a:stretch/>
        </p:blipFill>
        <p:spPr>
          <a:xfrm>
            <a:off x="3997440" y="255420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695" name="Oval 4"/>
          <p:cNvSpPr/>
          <p:nvPr/>
        </p:nvSpPr>
        <p:spPr>
          <a:xfrm>
            <a:off x="3746520" y="86508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6"/>
          <p:cNvSpPr/>
          <p:nvPr/>
        </p:nvSpPr>
        <p:spPr>
          <a:xfrm>
            <a:off x="3529080" y="480996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6262560" y="4770360"/>
            <a:ext cx="2590920" cy="1408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egnamento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dest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"/>
          <p:cNvSpPr/>
          <p:nvPr/>
        </p:nvSpPr>
        <p:spPr>
          <a:xfrm>
            <a:off x="6089760" y="800280"/>
            <a:ext cx="2392200" cy="1179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 costr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9"/>
          <p:cNvSpPr/>
          <p:nvPr/>
        </p:nvSpPr>
        <p:spPr>
          <a:xfrm>
            <a:off x="7394400" y="202392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0"/>
          <p:cNvSpPr/>
          <p:nvPr/>
        </p:nvSpPr>
        <p:spPr>
          <a:xfrm>
            <a:off x="243000" y="1330200"/>
            <a:ext cx="342900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1"/>
          <p:cNvSpPr/>
          <p:nvPr/>
        </p:nvSpPr>
        <p:spPr>
          <a:xfrm>
            <a:off x="6632640" y="3252960"/>
            <a:ext cx="31496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e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involg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 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378000" y="2986200"/>
            <a:ext cx="2568240" cy="138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unic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6"/>
          <p:cNvSpPr/>
          <p:nvPr/>
        </p:nvSpPr>
        <p:spPr>
          <a:xfrm>
            <a:off x="800280" y="455760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E5F-9AB0-4B2A-BC24-FACF9A6E1D9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974880" y="1419120"/>
            <a:ext cx="79405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assumere decisioni anche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verte la necessità di motivarle al suo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 il gruppo a prendere decisioni coll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ilita il lavoro del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ente il dovere di trovare in prima persona l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e a tutti 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l’importanza di dele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eci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0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723C-223E-413C-8350-BB465B6DFC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838080" y="1447920"/>
            <a:ext cx="8245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Consapevole di essere un punto di riferimento per 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mette in ogni circostanza i Valori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oordina con le altre figure chiave dell’organizzazion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mantenere la coerenza con quei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fasi di cambiamento stimola i collaborator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flettere sulle nuove sfide e sulle scelte compi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i acritico ma è fedele alla linea stabilita dal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tice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iffu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D8F7-CA88-4B07-800F-DDD2A733798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838080" y="1447920"/>
            <a:ext cx="824544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autorevole presso i 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gestire i conflitti tra e con 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glie i “segnali debo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 tempo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rogare premi e punizioni utilizzando crite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pa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Ha chiaro cosa si aspetta dai suoi collaboratori ed è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ace di comunicarl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ges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5B5-A893-4B05-9C06-14ECD68F318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3"/>
          <p:cNvSpPr/>
          <p:nvPr/>
        </p:nvSpPr>
        <p:spPr>
          <a:xfrm>
            <a:off x="838080" y="1447920"/>
            <a:ext cx="82454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insegnare ai propri collaboratori e pensa sia suo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vere f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fornire feedback costruttivi sia positivi ch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ssere mentore e consigliere dei propri collaborato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tivamente al percorso di carr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 i propri collaboratori sforzandosi di res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corato ai fatti e non alle sens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i pericoli insiti nel non valutare e nel valu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orret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coach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2624-2A8E-4796-91BD-3C59E15FAB0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00320" y="1030320"/>
            <a:ext cx="90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CIA UN ELENCO DELLE ATTIVITA’ CHE PUO’/POTREBBE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VOLGERE SOLO LEI ALL’INTERNO DELLA SUA AZIEND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DICANDO QUANTO TEMPO RIESCE A DEDICAR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98400" y="2554200"/>
            <a:ext cx="6112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086600" y="2554200"/>
            <a:ext cx="228600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sercitazione: attività non delegab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5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2799-6C06-4727-96B4-A4FB54D4D92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3-10-07T15:24:41Z</dcterms:modified>
  <cp:revision>93</cp:revision>
  <dc:subject/>
  <dc:title>Diapositiva 1</dc:title>
</cp:coreProperties>
</file>