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3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FDB-25A0-43C3-82A3-D090563A8E3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B1C-D6C5-4923-8D28-90C613D6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5845-C216-4EB8-8D3D-387C21CA58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D1F-3793-4A2C-8096-20C2482F8B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F23-6645-4E64-B245-9304CF13C7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71E0-9042-4AF7-9E58-1809DFAFE0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989-BDD1-4F25-BB7E-1A5C1BB1D2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783-5F4F-4230-95D7-82A85C90DE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EE1F-687E-41A8-9A4B-9AA4541FFE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097-B80C-41CA-A7C1-B532FD813A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C2A-E864-416D-8838-77FEB8833B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C54A-ADB3-4964-81AC-DE9BC2C5EC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7FB7-8E81-4478-8094-A0A8E79E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D97-77CB-4BB6-963A-CE206519C7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C907-F376-4CBA-8F8F-72AA12046A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CF9E-6CEF-468A-932D-1167A8D89E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EE5-BC33-4B4A-950C-9A13085DE6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D81-9644-4EC8-A365-8DC2E5C4AA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E12B-7848-4201-8C7A-9BBA026993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4E5-AEAF-4F1D-919B-4013B5D15B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D19A-6FFC-4505-B065-FC0CC3331D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82F-D21B-4AB5-B295-B42D6791A0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A0C-ECB4-4162-8DD0-600F646A33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644A-F52A-4FC9-9918-EED1B813FD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788-5D2C-45AC-8729-8B982F4B39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95B1-7D34-4296-942E-A2B0312DC7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55FC-0E4F-4B24-BFDD-B44791D18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59B-056B-49B4-B2BE-77E83193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F8A-9286-4B70-9203-2D36A7CD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DCF-D721-41EE-A927-4E6AA63E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2AD-5277-4F92-BD3C-E02A4D07E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9C5-0A6E-4CBF-A6C0-C63E6A6EA9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AB7B-442E-4CE5-9677-D16429D2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E6F-75DA-4DA8-8215-B327CF7B746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A107-DBC0-4800-9ADE-5520715090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895-554E-4FA6-AC7E-8D77F151E7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3DB-9979-4A8D-BDCC-E866F5043A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07E-E6A1-4105-BEF8-0C791B583C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717-7BA2-4F98-A134-FF086B3CC5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B61-A90E-4AAD-A1F2-8A48C327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314-69A9-4D83-8FDE-89C5F3FB86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DB1-E0A6-4A57-A13D-68F33511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269-1522-4CA2-BD3A-FDECBC1B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079-8D9B-4FCD-A6DA-704114D6C9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994-9BCB-414D-B4CD-18724AC602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AD35-5ACC-4B57-99FF-B3AEF7291C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CE1-AAAB-4B5A-AAC2-D62D494404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6C3-25DC-4BE3-BD58-D60C3B55CC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A6A5-986C-4CC8-9590-7E9181034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565C-08D3-479B-91E7-EC880EE4E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507E-2D01-479D-B6E4-08489767D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38F9-062C-40BB-A840-77F4AD4C1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45E5-2E2C-4A63-B7CF-574231E2B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8D58-7014-4F94-B119-531CA25A75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2BCD-8E01-44DC-80EE-EAAC7AA248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C27A-F927-4245-8410-C5DFA8CB96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C8F2-7307-4F48-B200-ED2BABD671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91E5-E575-4C7C-9F46-8FD7A3044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0768-AB92-498A-908C-B53DE3A26D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85FE-0F80-4A35-9009-331398D612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A0DD-8B13-43AC-AF6C-9A4482F6DC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4152-7A80-4B4D-8BFF-D434333B7F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5BA5-81B7-4EAA-80BE-0D93E17D71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CB79-AB64-434E-9DA9-6B80448875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F6EA-5F7E-4ECF-9471-8F2F2D3D99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5B95-A466-4CCC-985E-2705B1BB37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B0D-6954-43B4-8BE7-CE4FE0F129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FCB-4C3F-4F62-8CC7-3BA6061A7B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C99-259B-47A5-9919-FA41E1C2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FCD7-B5D7-4520-8931-6BC33F1289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386-0380-4586-8627-260C689E93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B93-0008-4EDD-9761-C0D79E6091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FA-3AAF-4460-B0E9-8919C70BAC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C3B-9F30-45A9-ACE4-EE22E05AC6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EBB-746A-4FCB-811D-49D3F18901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9E9-0C8D-4D1F-B3B6-D535326CE3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2EE-BF1C-41C2-AA24-1CCF79B224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D4C-E50C-4609-967D-161E09DEF2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FFF-FBCC-498C-B1A9-C77D4CB2E6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CE85-43FB-4EAC-AD4B-BCAFC96C71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CDEA-E0F8-4AE9-9C00-198CC39C86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ADFC-6699-47C7-8E13-EF0BE6C785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04A6-1024-43BC-8D74-DF34BB49B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0C1A-3CC9-44E0-A010-6C3EBA14C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6EBE-46A3-4CDC-AA22-D5BDE6B94DAC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6C8-6596-4B7A-8BBD-B7396615FF18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D93-083E-4E9D-82D8-0F2D86E2BCC4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Comunicare e lavorare in grupp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e strumenti per migliorare la prestazione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027"/>
          <p:cNvSpPr/>
          <p:nvPr/>
        </p:nvSpPr>
        <p:spPr>
          <a:xfrm>
            <a:off x="1523880" y="1495440"/>
            <a:ext cx="259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8"/>
          <p:cNvSpPr/>
          <p:nvPr/>
        </p:nvSpPr>
        <p:spPr>
          <a:xfrm>
            <a:off x="5486400" y="14954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nte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n diamo niente per scon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867A-9284-4AA5-8BC6-DE5D4F720FE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23880" y="1295280"/>
            <a:ext cx="26434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ribuisce alle parole significati diversi da quelli intesi da colui che p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019920" y="1371600"/>
            <a:ext cx="25048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preoccupato, impaziente, sulla difensiva, ostile, sospettoso, timo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447920" y="3505320"/>
            <a:ext cx="2719440" cy="1313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occupato a preparare la sua risposta, vuole par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19920" y="3581280"/>
            <a:ext cx="271944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 in considerazione solo le idee che contrastano con le sue convi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575080" y="5305320"/>
            <a:ext cx="2520720" cy="703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Sente ciò che si aspetta di 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barriere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0354-7825-4EE6-B8B1-B065D309993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842040" y="928800"/>
            <a:ext cx="83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UTTO QUELLO CHE SI PUO’ DIRE, SI PUO’ DIRE CHIARAM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 patto di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84280" y="1859040"/>
            <a:ext cx="9155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1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ere chiari gli obiettivi della comunicazione in relazione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 target di ascolto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obiettiv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2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droneggiare i contenuti della comunicazion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competenz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3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un linguaggio comprensibile per il destinatari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decodific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4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rutturare il messaggio in modo efficac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esemp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5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i supporti audiovisivi utili rispetto al contest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medi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6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aper correggere la rotta in funzione de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ll’interlocutore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feedbac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66360" y="6372360"/>
            <a:ext cx="484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patto di … VOLER ESSERE CH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133-EE72-45A7-B065-A1E6162234B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759600" y="135576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FUN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36560" y="2143080"/>
            <a:ext cx="84837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CH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INGUAGGIO COMPRENSIBILE PER CHI ASC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ENZA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UTTURA DEL DISCORSO FINALIZZATA ALLO 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PPORTI AUDIOVISIV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9324-926F-487C-8038-B5FBB302D71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170080" y="819000"/>
            <a:ext cx="53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RESPONSABILITA’ CONDI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cu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36560" y="2924280"/>
            <a:ext cx="84837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SI SEMPRE IL PERCHE’ DI UN MESSAGGIO ALL’APPARENZA POCO CHIARO O DISORIEN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ARE FEEDBACK “INTELLIG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IUTARE A SCIOGLIERE I “NOD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a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0FC-6DEC-4549-A348-BF1BED33309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2857320" y="13860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ALCHE SUGG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6560" y="2357280"/>
            <a:ext cx="87883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RE DI CAMBIARE LE “REGOLE DEL GIO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MESSAGGI DI RELAZIONE OSTILI RISPONDERE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“BRACCI DI FERRO” INUTILI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= VITTORIE DI PIR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4F5-84C8-4B58-89D6-4DABC0DA60A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1165320" y="1179360"/>
            <a:ext cx="6807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P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ASSU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DRAMMAT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LA COMPR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e mosse ut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E4F-7A8F-466D-A7E3-45AD485A8DF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571680" y="1219320"/>
            <a:ext cx="39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INUTILI (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8080" y="2152800"/>
            <a:ext cx="3429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AC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RROM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ON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080400" y="1219320"/>
            <a:ext cx="284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AMBIVA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334120" y="2152800"/>
            <a:ext cx="41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AMBIARE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FEND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S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MAND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P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BBAND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NV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00DF-929D-401B-85A9-433716E0276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685800" y="152388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 certo grado di conflittualità è fisi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esso non è possibile far ricorso al superiore comune (è troppo lont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i può far ricorso alla propria autorità di ruolo per imporre la propria idea (siamo p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è possibile (ma conviene?) ricorrere al proprio super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05120" y="4964040"/>
            <a:ext cx="6262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L’ENTITA’ DEL CONFLITTO CHE LA SUA SOLUZIONE DIPENDONO QUINDI DALLE CARATTERISTICH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il rapporto è tra pa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4F1-9B20-48E7-ACE6-3B5C585CFC3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638360" y="3929040"/>
            <a:ext cx="2362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6705720" y="2328840"/>
            <a:ext cx="281916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143000" y="652320"/>
            <a:ext cx="335268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4343400" y="484308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343400" y="179532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819520" y="293832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1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3460-0F79-417E-9237-B26BC5B3A53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perce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DAF6-6569-482C-9302-7DBE1412C1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magine 4" descr="Vecchia-Giovane big.JPG"/>
          <p:cNvPicPr/>
          <p:nvPr/>
        </p:nvPicPr>
        <p:blipFill>
          <a:blip r:embed="rId1"/>
          <a:stretch/>
        </p:blipFill>
        <p:spPr>
          <a:xfrm>
            <a:off x="3381480" y="11430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"/>
          <p:cNvSpPr/>
          <p:nvPr/>
        </p:nvSpPr>
        <p:spPr>
          <a:xfrm>
            <a:off x="2615040" y="2023920"/>
            <a:ext cx="457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IM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SED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RE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ttro tipi di approccio con il col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F09-DC12-4BC3-AEA2-75EBF1197D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738360" y="1136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’è solo il problema, il collega è tenuto a darmi le risposte perché lo prevede il suo ru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909880" y="218916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792000" y="3381480"/>
            <a:ext cx="3446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involgiment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er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54360" y="3379680"/>
            <a:ext cx="5042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blem solving limi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o utilizzo della cre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le di lavoro buroc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namica difensiva ne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im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CD0-615B-40FF-87EC-45BE62B68B0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600200" y="110160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ega è uno strumento da “oliare”, se lo faccio sentire importante collaborer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013200" y="23972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85800" y="3300480"/>
            <a:ext cx="3214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i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l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419720" y="3298680"/>
            <a:ext cx="50292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(presto o tardi)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itività nasc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“sospetto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sola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seduttiv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588-F093-43B7-82DD-59D9839477D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1600200" y="108432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mio problema è urgente, il collega “deve” ascoltarm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013200" y="23036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4520" y="3405240"/>
            <a:ext cx="3409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nella competenza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ccessiva fiducia in 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disponibilità alla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4363920" y="3403440"/>
            <a:ext cx="5166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stilità e risenti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aiuto nei momenti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oste “alla lett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repot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41C-0C15-4574-806B-28F5E34CCED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2028960" y="10000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vvero rispetto per sé e per l’altro nella risoluzione di problemi da condivid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13200" y="22147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4520" y="3024360"/>
            <a:ext cx="26668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38600" y="3022560"/>
            <a:ext cx="579132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alizzazione delle potenzialità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i veloci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attamento reciproco per limitare problem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102E-1592-4E8B-B41A-0CC1D6DD01D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04800" y="1000080"/>
            <a:ext cx="8991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 CAPACITA’ DI UN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OSCERE LE PROPRIE ESIGENZ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AFFERMARLE ALL’INTERNO DEL PROPRIO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 BUONE PROBABILITA’ DI RAGGIUNGERE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I PROPRI OBIETTIV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TENENDO POSITIVA LA PROPRIA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ELAZIONE CON GLI ALTR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9A8-735C-4C33-9F79-81743F7B3D9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5"/>
          <p:cNvSpPr/>
          <p:nvPr/>
        </p:nvSpPr>
        <p:spPr>
          <a:xfrm>
            <a:off x="2793960" y="762120"/>
            <a:ext cx="4318200" cy="4317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"/>
          <p:cNvSpPr/>
          <p:nvPr/>
        </p:nvSpPr>
        <p:spPr>
          <a:xfrm>
            <a:off x="914400" y="1981080"/>
            <a:ext cx="431784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724280" y="1981080"/>
            <a:ext cx="431820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809880" y="108432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Altre aree di appropriata espressione: (ammirazione, gratitudine, apprezza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3110040" y="2836800"/>
            <a:ext cx="14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Espressione di affetto comunicata accur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5334120" y="283680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Opposizione espressa in modo corretto o richieste fatte appropri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447920" y="2928960"/>
            <a:ext cx="12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AFFET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7170840" y="29289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OPPO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219320" y="3706920"/>
            <a:ext cx="169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socialmente inadeguato (sentimenti inespressi o espressi in modo esager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010280" y="3657600"/>
            <a:ext cx="1690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oppositivo socialmente riprovevole (aggressione, prevaricazione, violenza, intimidaz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3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F80-1387-4A0C-A482-61B322AC8E2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685800" y="11556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verso gli altri è condizionato nella ricerca delle mete personali, tanto che non si oppone alle influenze che subisce e si realizza in situazioni che risultano essere positive più per altri che per se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pa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79F-EB28-4418-A026-73FAD5D374F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027"/>
          <p:cNvSpPr/>
          <p:nvPr/>
        </p:nvSpPr>
        <p:spPr>
          <a:xfrm>
            <a:off x="685800" y="1071720"/>
            <a:ext cx="8534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esclusivamente verso la propria persona e verso la soddisfazione senza limiti dei propri bisogni; con qualsiasi mezzo, anche distruttivo, e con qualsiasi azione, anche violenta, domina gli altri, sfruttandoli per arrivare ad ottenere po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ggre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BB3-D488-43D5-AFAC-7BFCB5733A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27"/>
          <p:cNvSpPr/>
          <p:nvPr/>
        </p:nvSpPr>
        <p:spPr>
          <a:xfrm>
            <a:off x="704880" y="11430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verso se stesso e verso gli altri; nel rispetto e nella valorizzazione delle proprie e delle altrui risorse, si realizza favorendo la crescita reciproca e attuando cambi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ssert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E82-C0F9-4DAB-9EC4-0B45F4BB909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438200" y="1523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810040" y="39020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306120" y="2590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O SPAZI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862680" y="1523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047600" y="259092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ESPRESSIONE FAC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365200" y="51055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ONO E L’INFLESSIONE DELLA V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628640" y="36734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UALITA’ DELLE 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ponenti non verb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A70-E533-429C-85FE-C66F54165AF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027"/>
          <p:cNvSpPr/>
          <p:nvPr/>
        </p:nvSpPr>
        <p:spPr>
          <a:xfrm>
            <a:off x="685800" y="1214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condizionato e influenz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ubi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i op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Ha un’elevata ansia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benevolenza degli altri e fuga dal confl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8"/>
          <p:cNvSpPr/>
          <p:nvPr/>
        </p:nvSpPr>
        <p:spPr>
          <a:xfrm>
            <a:off x="5410080" y="1214280"/>
            <a:ext cx="3810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GR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 s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varica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coercitivi e distrut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potere personale e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9A9-2D79-47B6-B227-CB7292D2A5C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523880" y="1143000"/>
            <a:ext cx="6705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a se’ e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è condizion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motivanti e gratific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successo personale e con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E7C-7A62-4E9E-99C3-F164314F7A6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85720" y="2928960"/>
            <a:ext cx="693396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b587c"/>
                </a:solidFill>
                <a:latin typeface="Century Gothic"/>
              </a:rPr>
              <a:t>Lavorare in gruppo</a:t>
            </a:r>
            <a:endParaRPr b="0" lang="en-US" sz="32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441A-F094-43F4-921B-4922089F234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grupp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776160" y="1329840"/>
            <a:ext cx="8033040" cy="32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Almeno due pers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he si danno un’organizz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per raggiungere uno o più obi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231-B11C-4492-BCE6-91F8C6F5FF1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210200" y="2286000"/>
            <a:ext cx="2806560" cy="2525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664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3"/>
          <a:stretch/>
        </p:blipFill>
        <p:spPr>
          <a:xfrm>
            <a:off x="6934320" y="0"/>
            <a:ext cx="2614320" cy="1727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4"/>
          <a:stretch/>
        </p:blipFill>
        <p:spPr>
          <a:xfrm>
            <a:off x="0" y="2362320"/>
            <a:ext cx="2806560" cy="264132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6"/>
          <p:cNvGrpSpPr/>
          <p:nvPr/>
        </p:nvGrpSpPr>
        <p:grpSpPr>
          <a:xfrm>
            <a:off x="4808160" y="0"/>
            <a:ext cx="1671480" cy="2192400"/>
            <a:chOff x="4808160" y="0"/>
            <a:chExt cx="1671480" cy="2192400"/>
          </a:xfrm>
        </p:grpSpPr>
        <p:pic>
          <p:nvPicPr>
            <p:cNvPr id="410" name="Picture 7" descr=""/>
            <p:cNvPicPr/>
            <p:nvPr/>
          </p:nvPicPr>
          <p:blipFill>
            <a:blip r:embed="rId5"/>
            <a:stretch/>
          </p:blipFill>
          <p:spPr>
            <a:xfrm>
              <a:off x="5007600" y="0"/>
              <a:ext cx="1472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8"/>
            <p:cNvSpPr/>
            <p:nvPr/>
          </p:nvSpPr>
          <p:spPr>
            <a:xfrm>
              <a:off x="4808160" y="16765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4995000" y="19177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"/>
          <p:cNvPicPr/>
          <p:nvPr/>
        </p:nvPicPr>
        <p:blipFill>
          <a:blip r:embed="rId6"/>
          <a:stretch/>
        </p:blipFill>
        <p:spPr>
          <a:xfrm>
            <a:off x="7346880" y="1752480"/>
            <a:ext cx="19400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11"/>
          <p:cNvGrpSpPr/>
          <p:nvPr/>
        </p:nvGrpSpPr>
        <p:grpSpPr>
          <a:xfrm>
            <a:off x="7743960" y="3657600"/>
            <a:ext cx="2161800" cy="2044800"/>
            <a:chOff x="7743960" y="3657600"/>
            <a:chExt cx="2161800" cy="2044800"/>
          </a:xfrm>
        </p:grpSpPr>
        <p:graphicFrame>
          <p:nvGraphicFramePr>
            <p:cNvPr id="415" name="Object 4"/>
            <p:cNvGraphicFramePr/>
            <p:nvPr/>
          </p:nvGraphicFramePr>
          <p:xfrm>
            <a:off x="7743960" y="3657600"/>
            <a:ext cx="2161800" cy="1087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6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657600"/>
                      <a:ext cx="216180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7" name="Picture 13" descr=""/>
            <p:cNvPicPr/>
            <p:nvPr/>
          </p:nvPicPr>
          <p:blipFill>
            <a:blip r:embed="rId9"/>
            <a:stretch/>
          </p:blipFill>
          <p:spPr>
            <a:xfrm>
              <a:off x="7743960" y="4724280"/>
              <a:ext cx="2146320" cy="97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Picture 14" descr=""/>
          <p:cNvPicPr/>
          <p:nvPr/>
        </p:nvPicPr>
        <p:blipFill>
          <a:blip r:embed="rId10"/>
          <a:stretch/>
        </p:blipFill>
        <p:spPr>
          <a:xfrm>
            <a:off x="0" y="5295960"/>
            <a:ext cx="23670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"/>
          <p:cNvPicPr/>
          <p:nvPr/>
        </p:nvPicPr>
        <p:blipFill>
          <a:blip r:embed="rId11"/>
          <a:stretch/>
        </p:blipFill>
        <p:spPr>
          <a:xfrm>
            <a:off x="2558880" y="5473800"/>
            <a:ext cx="2945160" cy="1384200"/>
          </a:xfrm>
          <a:prstGeom prst="rect">
            <a:avLst/>
          </a:prstGeom>
          <a:ln w="0">
            <a:noFill/>
          </a:ln>
        </p:spPr>
      </p:pic>
      <p:pic>
        <p:nvPicPr>
          <p:cNvPr id="420" name="Group 16" descr=""/>
          <p:cNvPicPr/>
          <p:nvPr/>
        </p:nvPicPr>
        <p:blipFill>
          <a:blip r:embed="rId12"/>
          <a:stretch/>
        </p:blipFill>
        <p:spPr>
          <a:xfrm>
            <a:off x="5450040" y="4803840"/>
            <a:ext cx="3833640" cy="2114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"/>
          <p:cNvGrpSpPr/>
          <p:nvPr/>
        </p:nvGrpSpPr>
        <p:grpSpPr>
          <a:xfrm>
            <a:off x="1913760" y="1752480"/>
            <a:ext cx="2201400" cy="1938240"/>
            <a:chOff x="1913760" y="1752480"/>
            <a:chExt cx="2201400" cy="1938240"/>
          </a:xfrm>
        </p:grpSpPr>
        <p:graphicFrame>
          <p:nvGraphicFramePr>
            <p:cNvPr id="422" name="Object 2"/>
            <p:cNvGraphicFramePr/>
            <p:nvPr/>
          </p:nvGraphicFramePr>
          <p:xfrm>
            <a:off x="2228760" y="1752480"/>
            <a:ext cx="1815840" cy="123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3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8760" y="1752480"/>
                      <a:ext cx="1815840" cy="12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Text Box 21"/>
            <p:cNvSpPr/>
            <p:nvPr/>
          </p:nvSpPr>
          <p:spPr>
            <a:xfrm>
              <a:off x="1913760" y="3048120"/>
              <a:ext cx="2201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ALORI DI FO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NDIVI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2"/>
          <p:cNvGrpSpPr/>
          <p:nvPr/>
        </p:nvGrpSpPr>
        <p:grpSpPr>
          <a:xfrm>
            <a:off x="2409840" y="3581280"/>
            <a:ext cx="2174040" cy="2020680"/>
            <a:chOff x="2409840" y="3581280"/>
            <a:chExt cx="2174040" cy="2020680"/>
          </a:xfrm>
        </p:grpSpPr>
        <p:pic>
          <p:nvPicPr>
            <p:cNvPr id="426" name="Picture 23" descr=""/>
            <p:cNvPicPr/>
            <p:nvPr/>
          </p:nvPicPr>
          <p:blipFill>
            <a:blip r:embed="rId15"/>
            <a:stretch/>
          </p:blipFill>
          <p:spPr>
            <a:xfrm>
              <a:off x="2926800" y="3581280"/>
              <a:ext cx="1346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24"/>
            <p:cNvSpPr/>
            <p:nvPr/>
          </p:nvSpPr>
          <p:spPr>
            <a:xfrm>
              <a:off x="2409840" y="4959360"/>
              <a:ext cx="217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PACITA’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REND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660240" y="859320"/>
            <a:ext cx="89362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UN BUON CLIMA DI GRUPPO NON E’ ALTRO CHE LA SENSAZIONE DI BENESSERE NELLO STARE INSIEME, DIFFUSA TRA I PARTECI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E SI REALIZ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UNICAND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SVILUPPANDO RAPPORTI INTERPERSONALI MIRATI ALLA CONOSCENZA ED ALLA FIDUCIA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RAFFORZANDO LA CONDIVISIONE DEI VAL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VALORIZZANDO IL CONTRIBUTO DI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lima 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905C-014A-4611-9203-938ECA5700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i e gli a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432" name="Picture 18" descr=""/>
          <p:cNvPicPr/>
          <p:nvPr/>
        </p:nvPicPr>
        <p:blipFill>
          <a:blip r:embed="rId1"/>
          <a:stretch/>
        </p:blipFill>
        <p:spPr>
          <a:xfrm>
            <a:off x="1442880" y="1068480"/>
            <a:ext cx="7021800" cy="5097240"/>
          </a:xfrm>
          <a:prstGeom prst="rect">
            <a:avLst/>
          </a:prstGeom>
          <a:ln w="0">
            <a:noFill/>
          </a:ln>
        </p:spPr>
      </p:pic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CB75-C876-4261-BCD0-EB772DB6473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697040" y="1087560"/>
            <a:ext cx="6512040" cy="2190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voluzione nel lavoro in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CasellaDiTesto 5"/>
          <p:cNvSpPr/>
          <p:nvPr/>
        </p:nvSpPr>
        <p:spPr>
          <a:xfrm>
            <a:off x="666720" y="3500280"/>
            <a:ext cx="9121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un gruppo di recente formazione l’area APERTA è molto piccola, non c’è molta interazione libera e sponta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ia via che il gruppo cresce e matura, l’area APERTA si espande perché ci si sente più liberi di esprimersi e di comunicare, l’area NASCOSTA, di conseguenza, si contr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’area CIECA si modifica più lentamente e in maniera diversificata, mano a mano che le aperture sono più consapevoli; l’area IGNOTA si modifica ancora più len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9F8-7CFC-4F75-9430-030AE189551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649440" y="1219320"/>
            <a:ext cx="9064440" cy="64260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RE L’ESISTENZA D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FRA DI NOI E’ TUTTO 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3240" y="2209680"/>
            <a:ext cx="9080640" cy="642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RIBUIRE AGLI ALTRI LA CAUSA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’ TUTTA COLPA L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33240" y="3200400"/>
            <a:ext cx="9080640" cy="642600"/>
          </a:xfrm>
          <a:prstGeom prst="rect">
            <a:avLst/>
          </a:prstGeom>
          <a:solidFill>
            <a:srgbClr val="9f293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CCETTARE LA PROPRIA RESPONSABI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CI CREIAMO RECIPROCAMENTE DEI PROBL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49440" y="4191120"/>
            <a:ext cx="9064440" cy="642600"/>
          </a:xfrm>
          <a:prstGeom prst="rect">
            <a:avLst/>
          </a:prstGeom>
          <a:solidFill>
            <a:srgbClr val="f07f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VORARE SUI PROBLEM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TROVIAMO INSIEME LE SOLUZ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649440" y="5181480"/>
            <a:ext cx="9064440" cy="9169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ICIPARE L’EMERGERE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FINIAMO MECCANISMI FORMALI O INFOR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RATTARE PROBLEMI RICORR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41840" y="12142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41840" y="221616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41840" y="31957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1840" y="41860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41840" y="53341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viluppo delle relazioni n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9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B7B-0E84-4C43-BC83-CD7803206C7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funzio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88960" y="876600"/>
            <a:ext cx="8935920" cy="54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GRUPPO HA UNA FONDAMENTALE DIMENSIONE FUNZIONALE CHE SI COSTRUISCE E MANTIENE ATTRAVER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HIAREZZA E LA CONDIVISIONE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PPLICAZIONE DI MODALITA’ ORGANIZZATIVE ED OPERATIVE ADE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PRESENZA DELLE COMPETENZE NECESS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OSTRUZIONE DI UN METODO COMUNE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DI MOMENTI DI AUTO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FUNZIONAMENTO DI UNA LEADERSHIP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E LO STIMOLO DI PROCESS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077B-8176-4B84-88F5-908B8F1211D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882720" y="1428840"/>
            <a:ext cx="7994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, PREC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LETEZZA SINTETIC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TERESSE (DEL TRASMITTENTE E DEL RICEV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quisiti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138E-9F7D-4C12-8021-4EEB50C06B2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341440" y="1600200"/>
            <a:ext cx="47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480" y="3429000"/>
            <a:ext cx="24087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632640" y="3429000"/>
            <a:ext cx="22716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213360" y="1578240"/>
            <a:ext cx="3782880" cy="3679200"/>
            <a:chOff x="3213360" y="1578240"/>
            <a:chExt cx="3782880" cy="3679200"/>
          </a:xfrm>
        </p:grpSpPr>
        <p:sp>
          <p:nvSpPr>
            <p:cNvPr id="457" name="Freeform 7"/>
            <p:cNvSpPr/>
            <p:nvPr/>
          </p:nvSpPr>
          <p:spPr>
            <a:xfrm rot="18664200">
              <a:off x="4149720" y="1823400"/>
              <a:ext cx="1710000" cy="23274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 rot="18664200">
              <a:off x="4623120" y="3285720"/>
              <a:ext cx="2273400" cy="129852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 rot="18664200">
              <a:off x="3890160" y="2905560"/>
              <a:ext cx="1145880" cy="231732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2317320"/>
                <a:gd name="textAreaBottom" fmla="*/ 2317680 h 231732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 rot="18664200">
              <a:off x="4060080" y="1864080"/>
              <a:ext cx="1710000" cy="20898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089800"/>
                <a:gd name="textAreaBottom" fmla="*/ 2090160 h 20898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.A.I.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771-A315-43F6-8E66-E06F5FD6747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1270440" y="1600200"/>
            <a:ext cx="184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96200" y="2514600"/>
            <a:ext cx="208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CHIAR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887480" y="3657600"/>
            <a:ext cx="104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S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5800680" y="1600200"/>
            <a:ext cx="200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ACCOLTA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5588280" y="2438280"/>
            <a:ext cx="232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TERPRE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59280" y="3581280"/>
            <a:ext cx="207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NALOGIE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FATTI CONC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4292640" y="16002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4375080" y="2514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4375080" y="3657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84080" y="4749840"/>
            <a:ext cx="5883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RRORE PIU’ COMUNE:GRUPPO IPERPRO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442520" y="5359320"/>
            <a:ext cx="4960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OVERDOSE DI CONTRIBUTI/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 SCAPITO DELLA FASE DEC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e di produ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5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405-3471-4122-AFE3-35D3F8A12EE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171440" y="1371600"/>
            <a:ext cx="260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UTOAFFE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5131800" y="1295280"/>
            <a:ext cx="2393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DIFESA DI OPI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DEE PO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680400" y="2743200"/>
            <a:ext cx="316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FLUENZA/PERSUA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5118120" y="2666880"/>
            <a:ext cx="4457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ESERC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ERSUASIONE SUGLI ALTRI MEMBRI DELGRUPPO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INCERLI DELLA BONTA’ DELLA PROPRIA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194480" y="4732200"/>
            <a:ext cx="534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RRORE PIU’ COMUNE:GRUPPO IN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758960" y="5265720"/>
            <a:ext cx="4338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GGRESSIVITA’/IPERCOMPETI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TTITUDINE A CREARE OSTA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STRANE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 flipV="1">
            <a:off x="2889360" y="1904400"/>
            <a:ext cx="1238040" cy="609480"/>
          </a:xfrm>
          <a:custGeom>
            <a:avLst/>
            <a:gdLst>
              <a:gd name="textAreaLeft" fmla="*/ 712440 w 1238040"/>
              <a:gd name="textAreaRight" fmla="*/ 1044720 w 123804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 flipV="1">
            <a:off x="2971800" y="3276000"/>
            <a:ext cx="1238400" cy="609480"/>
          </a:xfrm>
          <a:custGeom>
            <a:avLst/>
            <a:gdLst>
              <a:gd name="textAreaLeft" fmla="*/ 712440 w 1238400"/>
              <a:gd name="textAreaRight" fmla="*/ 1045080 w 123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individu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4AD4-9F22-4B9E-A880-780F4D659C9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1006560" y="1295280"/>
            <a:ext cx="2277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OINVOLG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540320" y="1219320"/>
            <a:ext cx="46227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CANAL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MEMBRI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06560" y="2895480"/>
            <a:ext cx="1896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40320" y="2971800"/>
            <a:ext cx="503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NCILIAZIONE DI DISACCO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RIDUZIONE DI T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127880" y="4724280"/>
            <a:ext cx="561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ERRORE PIU’ COMUNE:GRUPPO AS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2064240" y="5334120"/>
            <a:ext cx="4053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ENTRALITA’ DEL “VOLERSI BE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ANCHE A SCAPIT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RISULTAT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7800" y="3809880"/>
            <a:ext cx="1730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DI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4292640" y="3886200"/>
            <a:ext cx="528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ORMULAR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ARE SINTESI DI OPIN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"/>
          <p:cNvSpPr/>
          <p:nvPr/>
        </p:nvSpPr>
        <p:spPr>
          <a:xfrm flipV="1">
            <a:off x="1816200" y="2209680"/>
            <a:ext cx="2228760" cy="533520"/>
          </a:xfrm>
          <a:custGeom>
            <a:avLst/>
            <a:gdLst>
              <a:gd name="textAreaLeft" fmla="*/ 1282320 w 2228760"/>
              <a:gd name="textAreaRight" fmla="*/ 1881000 w 22287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3879720" y="29718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3632040" y="38862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di assist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8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C9E-8BCE-4566-A5AD-F33F7ABD5B2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2351520" y="2022480"/>
            <a:ext cx="48502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ASSISTITE DA UN ME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1480" y="3317760"/>
            <a:ext cx="30762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DA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COORDIN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5824800" y="3317760"/>
            <a:ext cx="31374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UTO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3446640" y="2652480"/>
            <a:ext cx="3011040" cy="2900520"/>
            <a:chOff x="3446640" y="2652480"/>
            <a:chExt cx="3011040" cy="2900520"/>
          </a:xfrm>
        </p:grpSpPr>
        <p:sp>
          <p:nvSpPr>
            <p:cNvPr id="503" name="Freeform 7"/>
            <p:cNvSpPr/>
            <p:nvPr/>
          </p:nvSpPr>
          <p:spPr>
            <a:xfrm rot="18664200">
              <a:off x="4214160" y="276552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 rot="18664200">
              <a:off x="4690440" y="400860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8664200">
              <a:off x="4064040" y="356832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 rot="18664200">
              <a:off x="4136400" y="280116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Buon funzionamento d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8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5A2-5919-4CF2-B27C-EAE4A7589FE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i di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0" name="Segnaposto numero diapositiva 2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D2F-0B92-40DB-96DC-59174302AD5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riangolo isoscele 3"/>
          <p:cNvSpPr/>
          <p:nvPr/>
        </p:nvSpPr>
        <p:spPr>
          <a:xfrm>
            <a:off x="5624640" y="92556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ttore 1 5"/>
          <p:cNvSpPr/>
          <p:nvPr/>
        </p:nvSpPr>
        <p:spPr>
          <a:xfrm flipH="1">
            <a:off x="6550200" y="92484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onnettore 1 7"/>
          <p:cNvSpPr/>
          <p:nvPr/>
        </p:nvSpPr>
        <p:spPr>
          <a:xfrm>
            <a:off x="7464600" y="92556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nnettore 1 8"/>
          <p:cNvSpPr/>
          <p:nvPr/>
        </p:nvSpPr>
        <p:spPr>
          <a:xfrm flipH="1">
            <a:off x="7210440" y="92484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nnettore 1 9"/>
          <p:cNvSpPr/>
          <p:nvPr/>
        </p:nvSpPr>
        <p:spPr>
          <a:xfrm>
            <a:off x="7463880" y="92556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e 29"/>
          <p:cNvSpPr/>
          <p:nvPr/>
        </p:nvSpPr>
        <p:spPr>
          <a:xfrm>
            <a:off x="2940120" y="379728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  <p:sp>
        <p:nvSpPr>
          <p:cNvPr id="529" name="Ovale 21"/>
          <p:cNvSpPr/>
          <p:nvPr/>
        </p:nvSpPr>
        <p:spPr>
          <a:xfrm>
            <a:off x="7397640" y="870120"/>
            <a:ext cx="115920" cy="13788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3737880" y="1903320"/>
            <a:ext cx="1777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NOTA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46200" y="3503520"/>
            <a:ext cx="299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METODOL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373440" y="3503520"/>
            <a:ext cx="2526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EDI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6"/>
          <p:cNvGrpSpPr/>
          <p:nvPr/>
        </p:nvGrpSpPr>
        <p:grpSpPr>
          <a:xfrm>
            <a:off x="3760920" y="2990520"/>
            <a:ext cx="3011040" cy="2900520"/>
            <a:chOff x="3760920" y="2990520"/>
            <a:chExt cx="3011040" cy="2900520"/>
          </a:xfrm>
        </p:grpSpPr>
        <p:sp>
          <p:nvSpPr>
            <p:cNvPr id="534" name="Freeform 7"/>
            <p:cNvSpPr/>
            <p:nvPr/>
          </p:nvSpPr>
          <p:spPr>
            <a:xfrm rot="18664200">
              <a:off x="4528440" y="310356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18664200">
              <a:off x="5004720" y="434664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18664200">
              <a:off x="4378320" y="390636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rot="18664200">
              <a:off x="4450680" y="313920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2"/>
          <p:cNvSpPr/>
          <p:nvPr/>
        </p:nvSpPr>
        <p:spPr>
          <a:xfrm>
            <a:off x="2496600" y="2589120"/>
            <a:ext cx="4262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EGISTRARE I CONTRIBUTI DI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891360" y="4189320"/>
            <a:ext cx="1884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PRESID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780600" y="4646520"/>
            <a:ext cx="1489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REG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GLI SC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 del coordina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E25-8AAA-4680-B43A-1627B0D6951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leadership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76440" y="1623960"/>
            <a:ext cx="3206520" cy="3059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583240" y="1716120"/>
            <a:ext cx="3206880" cy="3058920"/>
          </a:xfrm>
          <a:prstGeom prst="rect">
            <a:avLst/>
          </a:prstGeom>
          <a:ln w="0">
            <a:noFill/>
          </a:ln>
        </p:spPr>
      </p:pic>
      <p:sp>
        <p:nvSpPr>
          <p:cNvPr id="546" name="CasellaDiTesto 4"/>
          <p:cNvSpPr/>
          <p:nvPr/>
        </p:nvSpPr>
        <p:spPr>
          <a:xfrm>
            <a:off x="1189800" y="53942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adership situ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5"/>
          <p:cNvSpPr/>
          <p:nvPr/>
        </p:nvSpPr>
        <p:spPr>
          <a:xfrm>
            <a:off x="6256440" y="53960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iglia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BD71-C752-4879-81A3-FF4B5AEF15B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552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562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4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E21E-80DC-499E-831F-AF5CC82D5E3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2611440" y="1322280"/>
            <a:ext cx="4684680" cy="4913280"/>
          </a:xfrm>
          <a:prstGeom prst="rect">
            <a:avLst/>
          </a:prstGeom>
          <a:ln w="0">
            <a:noFill/>
          </a:ln>
        </p:spPr>
      </p:pic>
      <p:sp>
        <p:nvSpPr>
          <p:cNvPr id="57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F46-D61D-4E19-A673-01DEA38DF89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800800" y="1101600"/>
            <a:ext cx="4164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RR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 AI TERMINI IN “GER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ONTANE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OLLERARE L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DELLA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importanti accorgiment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8781-338F-4D87-AFC6-6864812BE3D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cide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9" name="Rettangolo 27"/>
          <p:cNvSpPr/>
          <p:nvPr/>
        </p:nvSpPr>
        <p:spPr>
          <a:xfrm>
            <a:off x="566640" y="1200240"/>
            <a:ext cx="842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L'OBIETTIVO/RISULTATO VOL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I CRITERI IRRINUNCIABILI AI QUALI DOVRÀ RISPONDERE LA SOLUZIONE PRE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ULTERIORI CRITERI " DESIDERABIL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RE POSSIBILI ALTERNATIVE DI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RONTARE LE ALTERNATIVE PRIMA COI CRITERI IRRINUNCIABILI E POI CON I “DESIDERAT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RE I RISCHI DELLE ALTERNATIVE “PASSAT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EGLIERE L'ALTERNATIVA OT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RE L'AT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2D5-6118-4579-8BF8-8BE8F7F0F7F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027"/>
          <p:cNvSpPr/>
          <p:nvPr/>
        </p:nvSpPr>
        <p:spPr>
          <a:xfrm>
            <a:off x="1379160" y="1413000"/>
            <a:ext cx="15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 CH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CH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28"/>
          <p:cNvSpPr/>
          <p:nvPr/>
        </p:nvSpPr>
        <p:spPr>
          <a:xfrm>
            <a:off x="5098320" y="1413000"/>
            <a:ext cx="307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G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RGOMENTO/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RATA/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29"/>
          <p:cNvSpPr/>
          <p:nvPr/>
        </p:nvSpPr>
        <p:spPr>
          <a:xfrm>
            <a:off x="3962520" y="1766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30"/>
          <p:cNvSpPr/>
          <p:nvPr/>
        </p:nvSpPr>
        <p:spPr>
          <a:xfrm>
            <a:off x="3962520" y="24289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34"/>
          <p:cNvSpPr/>
          <p:nvPr/>
        </p:nvSpPr>
        <p:spPr>
          <a:xfrm>
            <a:off x="3962520" y="31114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35"/>
          <p:cNvSpPr/>
          <p:nvPr/>
        </p:nvSpPr>
        <p:spPr>
          <a:xfrm>
            <a:off x="3962520" y="37879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36"/>
          <p:cNvSpPr/>
          <p:nvPr/>
        </p:nvSpPr>
        <p:spPr>
          <a:xfrm>
            <a:off x="3962520" y="45007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37"/>
          <p:cNvSpPr/>
          <p:nvPr/>
        </p:nvSpPr>
        <p:spPr>
          <a:xfrm>
            <a:off x="3962520" y="51436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omande chiave per comunica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1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A56C-7D92-4410-A6A2-B69F81D42A0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B0D-919E-40B3-AAA6-D8B12BBE0FE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3"/>
          <p:cNvSpPr/>
          <p:nvPr/>
        </p:nvSpPr>
        <p:spPr>
          <a:xfrm>
            <a:off x="1543320" y="907920"/>
            <a:ext cx="1595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4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7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8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9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2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4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5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sellaDiTesto 4"/>
          <p:cNvSpPr/>
          <p:nvPr/>
        </p:nvSpPr>
        <p:spPr>
          <a:xfrm>
            <a:off x="4569840" y="836640"/>
            <a:ext cx="239220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6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7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8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9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1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2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3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4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5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6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7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8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9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0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7"/>
          <p:cNvSpPr/>
          <p:nvPr/>
        </p:nvSpPr>
        <p:spPr>
          <a:xfrm>
            <a:off x="1191960" y="1192320"/>
            <a:ext cx="7276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OSITIVO E INCORAGG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IZIONE CONCENTRATA E FR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ATTO VIS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RILAS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NNI DI AS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TO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coltare con tutto il cor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258-0916-4CAB-A9AC-C16A64008DA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650880" y="961920"/>
            <a:ext cx="86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SIDERARE DI CA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E CHIA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RE 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ALTARE SUBITO ALL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ascolto a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3520" y="4314960"/>
            <a:ext cx="883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ANDO HA DETTO… PROBABILMENTE INTENDEVA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INDI DEVO INTERPRETARE LE SUE PAROLE COM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ONO CERTO DI AVER COLTO IL SENSO DELLE SUE PAROLE, POTREBBE ESSERE PIU’ SPECIFIC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4A6-7B53-42E2-8CC0-FE3435A4BF0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1-09-17T14:31:32Z</dcterms:modified>
  <cp:revision>76</cp:revision>
  <dc:subject/>
  <dc:title>Diapositiva 1</dc:title>
</cp:coreProperties>
</file>