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3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24A1-9BC3-4A00-B77F-28245954EA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17D4-7FF2-48D4-B8EC-0B5C798C5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EAFA-E924-44C5-AF74-A0EB9DEA3C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EA02-F3E9-4DE5-BB75-2D2CBFDEA8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10C6-5AAC-4A09-A0EA-2781B38F21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195F-5BA4-4325-AF1B-15A3D6575D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0FA1-6E72-4AC4-A7FA-76677DE793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7033-D355-48C2-BA8A-2E89D966A7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26F1-7058-4AB2-A77E-7B402B71CB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A991-AFDF-40E0-9685-EE946BEC24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C19F-B213-439A-88B6-A5DE59A4C6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9BE8-59A6-49B8-8312-FB3E39ABFA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DAE2-C052-473F-B779-220CE9BE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2683-0FCC-4F07-9515-A89C0C51AB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593E-BB84-4C36-935E-346F1C2292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E507-FD3B-45B5-AFFB-CD000DA7BA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FE95-A1CB-4A82-BD6B-CEC48F959D6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CEA3-DBED-42D1-8DEB-936CBAFCB4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4711-F13A-43A5-A6E1-16CA342A0D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3C1A-492E-4816-9E51-ACFE272E080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D613-52EE-4A81-BA06-8ED3AACD7EF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B3B1-9E45-42FA-A979-53F5BDD1EB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5D43-FBA4-4EAF-B773-731153305B7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A9D0-BDA9-4E69-B820-AA6599B228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C09B-BE72-4571-B667-93396EFBA5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A133-546D-49DC-AA91-EEEF18AFBD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4465-B90E-46F3-B88F-B8A081B50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9B2F-3086-4EAC-9B1B-8F33B3FFB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BA6B-453B-4F3C-84C5-73BA9792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B7CC-666D-4A23-8730-E398D323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A075-53DC-4CCF-801A-A5EABF17F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68D8-D714-460E-B37A-1C87D7EEC1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48F0-A03D-422E-ACF6-F8D51822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4A38-A7AE-40C0-A9DA-1DE84E88EA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142B-7353-45DF-8C37-A0E061B072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2A13-109E-42A4-A6E5-603A1074980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56CC-E14E-471C-BA4E-2D9E46FD9C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02AB-8842-43F3-A99B-3D30EB48EC9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1B7B-A118-4919-8E02-0AE26BB29A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00F4-EB37-448F-B08E-222BFCDE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CA4A-6453-4E54-9DE6-1E31C364725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D320-F1A9-47C7-B406-C9405D09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EAB0-5216-41C5-B5D8-9ED5C09C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32BC-FE3C-457A-9E66-36097B5CE2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FE65-C35F-46CD-B906-381E6DDA9B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E873-1B09-47A3-90A7-36C4AC6AC24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49B-1493-43DF-A08D-14DC8E02283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820-59B9-4BBF-A5E9-8D837D5E0C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B558-E5C5-4CA2-9484-790740A50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5595-A993-43C4-8570-412DC05E6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AF40-2C58-48CB-A1B8-6D85918FF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E8B0-73D1-4B81-9BC5-4CF129F6A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8950-0E54-4D22-90DC-D60A11C53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07FB-19E7-42A8-8F54-82052F175B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F7A4-5DA2-45BF-B8BA-99E1ABDCCA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7BF3-7C2F-4FDC-8D0F-622AABDE1C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D95B-B394-4754-A3CD-A72502D58F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39BD-C712-46C7-B536-ABA7E3F84B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8FE3-E532-4FED-86E3-3F3F3E912E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EEF4-01F4-4F25-AF67-8CEBA53F41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5889-9188-43C7-9707-103C1FB14C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91DD-AFBB-43F0-88E8-40B23F82EA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BF2F-E750-44EF-AC64-6E93C4C3E3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0351-F2DF-4811-A988-B0FAC843A8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962F-5C3D-4501-9D97-432C4DF0D0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AA5D-C010-43FB-A649-82FE5C99E9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0C8-C80C-4346-8BDD-545D4DC927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DDD-00CB-4989-A472-CCCCA3C527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2A6-96AF-4999-9FEA-369E588BE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5CF2-7D65-4CD0-AEE3-09BB5F017B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842-BA61-4DB6-B638-72A6EEBC41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B39-75AE-451C-9581-9E76D59962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B70-2A26-4E84-AD81-E905650A3B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375-9534-4D2C-B288-3E63218C19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334-A53F-4F3C-892A-13EFC4303D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17C-74FC-4364-872C-4E722F8B7D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FCF-82B1-446E-957B-BCBB425F01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2FB-338D-4F57-9624-19F1CACC5E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103-9AFC-4C91-9902-2680FC9A02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88B5-2C1A-4849-9F83-4BE2399361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C81A-982D-4357-8154-A4471814E3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1764-5E07-46BC-99A7-6882D442BB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732C-604F-4549-8731-44B8DD72C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70DA-A7FD-4F97-9B99-F9336A170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8DA6-B96D-44C0-BD58-88808BD4797C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7A0D-02EA-42AE-B116-F331179A6D54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9AD2-5319-4987-8D4F-D50F2402168F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2987640"/>
            <a:ext cx="8420040" cy="147024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Comunicare e lavorare in gruppo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485720" y="4743000"/>
            <a:ext cx="6933960" cy="971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e strumenti per migliorare la prestazione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027"/>
          <p:cNvSpPr/>
          <p:nvPr/>
        </p:nvSpPr>
        <p:spPr>
          <a:xfrm>
            <a:off x="1523880" y="1495440"/>
            <a:ext cx="259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28"/>
          <p:cNvSpPr/>
          <p:nvPr/>
        </p:nvSpPr>
        <p:spPr>
          <a:xfrm>
            <a:off x="5486400" y="149544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mante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Non diamo niente per sconta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D728-546F-43E8-BE7E-443564B874D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523880" y="1295280"/>
            <a:ext cx="264348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ttribuisce alle parole significati diversi da quelli intesi da colui che p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019920" y="1371600"/>
            <a:ext cx="250488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’ preoccupato, impaziente, sulla difensiva, ostile, sospettoso, timo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447920" y="3505320"/>
            <a:ext cx="2719440" cy="1313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’ occupato a preparare la sua risposta, vuole par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019920" y="3581280"/>
            <a:ext cx="271944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rende in considerazione solo le idee che contrastano con le sue convi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575080" y="5305320"/>
            <a:ext cx="2520720" cy="7038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Sente ciò che si aspetta di s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barriere della 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3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467F-51B4-412C-9584-44E5C0A50E8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842040" y="928800"/>
            <a:ext cx="83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UTTO QUELLO CHE SI PUO’ DIRE, SI PUO’ DIRE CHIARAM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 patto di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84280" y="1859040"/>
            <a:ext cx="9155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1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ere chiari gli obiettivi della comunicazione in relazione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 target di ascolto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obiettiv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2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adroneggiare i contenuti della comunicazion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competenz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3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un linguaggio comprensibile per il destinatario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decodific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4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trutturare il messaggio in modo efficac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esemp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5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i supporti audiovisivi utili rispetto al contesto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medi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6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aper correggere la rotta in funzione dei bisogni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ll’interlocutore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feedback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466360" y="6372360"/>
            <a:ext cx="484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patto di … VOLER ESSERE CH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8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8159-38C9-4BEE-930E-D459BB139FF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759600" y="1355760"/>
            <a:ext cx="72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COMUNICAZIONE EFFICACE E’ FUNZIONE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36560" y="2143080"/>
            <a:ext cx="84837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CH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INGUAGGIO COMPRENSIBILE PER CHI ASCO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ETENZA SU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RUTTURA DEL DISCORSO FINALIZZATA ALLO 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PPORTI AUDIOVISIVI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6695-ED26-4515-BFC7-0C5B4200C8F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2170080" y="819000"/>
            <a:ext cx="535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COMUNICAZIONE EFFICACE E’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RESPONSABILITA’ CONDIV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cu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36560" y="2924280"/>
            <a:ext cx="84837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EDERSI SEMPRE IL PERCHE’ DI UN MESSAGGIO ALL’APPARENZA POCO CHIARO O DISORIEN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ARE FEEDBACK “INTELLIG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IUTARE A SCIOGLIERE I “NOD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Ma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01C2-0EA1-4918-9FA5-B16EE8D2D92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2857320" y="138600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QUALCHE SUGG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736560" y="2357280"/>
            <a:ext cx="87883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RCARE DI CAMBIARE LE “REGOLE DEL GIO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MESSAGGI DI RELAZIONE OSTILI RISPONDERE SU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VITARE “BRACCI DI FERRO” INUTILI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= VITTORIE DI PIR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ciogliere i nod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657D-9924-41EC-822E-0675C798F64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1165320" y="1179360"/>
            <a:ext cx="68072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ORD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P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ASSU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DRAMMATIZ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LA COMPR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ORIZ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e mosse uti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A008-8734-42DE-8689-6C30F58CE95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571680" y="1219320"/>
            <a:ext cx="39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OSSE INUTILI (IN GEN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38080" y="2152800"/>
            <a:ext cx="34290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AC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ERROMP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RONIZ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ANALIZ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080400" y="1219320"/>
            <a:ext cx="2847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OSSE AMBIVAL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5334120" y="2152800"/>
            <a:ext cx="4114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A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AMBIARE ARG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FENDE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SS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OMAND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PO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BBANDO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NV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ciogliere i nod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9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5523-0E41-4863-BAB5-71C847BC3AF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685800" y="1523880"/>
            <a:ext cx="86104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 certo grado di conflittualità è fisi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pesso non è possibile far ricorso al superiore comune (è troppo lont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i può far ricorso alla propria autorità di ruolo per imporre la propria idea (siamo p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è possibile (ma conviene?) ricorrere al proprio super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905120" y="4964040"/>
            <a:ext cx="6262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A L’ENTITA’ DEL CONFLITTO CHE LA SUA SOLUZIONE DIPENDONO QUINDI DALLE CARATTERISTICHE INDIVID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ndo il rapporto è tra pa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3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F0FB-F554-416B-9E12-CC18F6AED6C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638360" y="3929040"/>
            <a:ext cx="23623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6705720" y="2328840"/>
            <a:ext cx="2819160" cy="28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E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1143000" y="652320"/>
            <a:ext cx="335268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BIET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4343400" y="484308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4343400" y="1795320"/>
            <a:ext cx="205740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819520" y="293832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1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6EFD-1FD2-42BC-8730-C6F778CA009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perce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07A9-1100-4AC9-8E74-F02CA774B07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magine 4" descr="Vecchia-Giovane big.JPG"/>
          <p:cNvPicPr/>
          <p:nvPr/>
        </p:nvPicPr>
        <p:blipFill>
          <a:blip r:embed="rId1"/>
          <a:stretch/>
        </p:blipFill>
        <p:spPr>
          <a:xfrm>
            <a:off x="3381480" y="114300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3"/>
          <p:cNvSpPr/>
          <p:nvPr/>
        </p:nvSpPr>
        <p:spPr>
          <a:xfrm>
            <a:off x="2615040" y="2023920"/>
            <a:ext cx="457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IM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SEDU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PREPO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ttro tipi di approccio con il col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AAD6-4323-4260-B9AD-4519D488569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738360" y="1136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’è solo il problema, il collega è tenuto a darmi le risposte perché lo prevede il suo ru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2909880" y="218916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792000" y="3381480"/>
            <a:ext cx="3446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u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involgimento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cer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554360" y="3379680"/>
            <a:ext cx="50421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blem solving limi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o utilizzo della crea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a moti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le di lavoro buroc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namica difensiva nella 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im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07A3-9C83-4DE4-A3A3-11D7E49EEB9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1600200" y="110160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llega è uno strumento da “oliare”, se lo faccio sentire importante collaborerà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013200" y="23972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85800" y="3300480"/>
            <a:ext cx="32148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since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ip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leal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4419720" y="3298680"/>
            <a:ext cx="50292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fiducia (presto o tardi)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etitività nasc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lima organizzativo “sospetto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solamento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seduttiv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6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1C57-0DFC-474B-B57E-59B83D357C8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1600200" y="108432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mio problema è urgente, il collega “deve” ascoltarm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013200" y="23036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614520" y="3405240"/>
            <a:ext cx="34099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fiducia nella competenza altr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ccessiva fiducia in 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a disponibilità alla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4363920" y="3403440"/>
            <a:ext cx="5166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stilità e risentimento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canza di aiuto nei momenti diffic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poste “alla lette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prepot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2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3790-2896-45A1-A8DE-9801C7E80FB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2028960" y="100008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vvero rispetto per sé e per l’altro nella risoluzione di problemi da condivide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13200" y="221472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14520" y="3024360"/>
            <a:ext cx="26668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ce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n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38600" y="3022560"/>
            <a:ext cx="579132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cerità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lima organizzativo 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alizzazione delle potenzialità 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luzioni veloci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attamento reciproco per limitare problem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8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BE98-26F2-4A27-928A-ED9D8962D75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604800" y="1000080"/>
            <a:ext cx="89917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A CAPACITA’ DI UN INDIVID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CONOSCERE LE PROPRIE ESIGENZ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AFFERMARLE ALL’INTERNO DEL PROPRIO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 BUONE PROBABILITA’ DI RAGGIUNGERE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I PROPRI OBIETTIV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NTENENDO POSITIVA LA PROPRIA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ELAZIONE CON GLI ALTR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ser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DA8C-21BC-4B36-A396-8A09ED51085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Oval 5"/>
          <p:cNvSpPr/>
          <p:nvPr/>
        </p:nvSpPr>
        <p:spPr>
          <a:xfrm>
            <a:off x="2793960" y="762120"/>
            <a:ext cx="4318200" cy="4317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"/>
          <p:cNvSpPr/>
          <p:nvPr/>
        </p:nvSpPr>
        <p:spPr>
          <a:xfrm>
            <a:off x="914400" y="1981080"/>
            <a:ext cx="4317840" cy="431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4724280" y="1981080"/>
            <a:ext cx="4318200" cy="431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3809880" y="108432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Altre aree di appropriata espressione: (ammirazione, gratitudine, apprezza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3110040" y="2836800"/>
            <a:ext cx="14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Espressione di affetto comunicata accur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5334120" y="283680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Opposizione espressa in modo corretto o richieste fatte appropri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1447920" y="2928960"/>
            <a:ext cx="12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RELAZIONE AFFET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7170840" y="292896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RELAZIONE OPPOSI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1219320" y="3706920"/>
            <a:ext cx="1690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Comportamento socialmente inadeguato (sentimenti inespressi o espressi in modo esager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7010280" y="3657600"/>
            <a:ext cx="1690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Comportamento oppositivo socialmente riprovevole (aggressione, prevaricazione, violenza, intimidaz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ser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3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EC05-2553-4C5F-803C-A5D56CB5F53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685800" y="11556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verso gli altri è condizionato nella ricerca delle mete personali, tanto che non si oppone alle influenze che subisce e si realizza in situazioni che risultano essere positive più per altri che per se st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pa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C0CF-6CC6-4AD1-9AC8-F281B7A0C72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027"/>
          <p:cNvSpPr/>
          <p:nvPr/>
        </p:nvSpPr>
        <p:spPr>
          <a:xfrm>
            <a:off x="685800" y="1071720"/>
            <a:ext cx="85345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esclusivamente verso la propria persona e verso la soddisfazione senza limiti dei propri bisogni; con qualsiasi mezzo, anche distruttivo, e con qualsiasi azione, anche violenta, domina gli altri, sfruttandoli per arrivare ad ottenere po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ggre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4D66-DE95-48F3-B5BE-D19F8DC93F4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27"/>
          <p:cNvSpPr/>
          <p:nvPr/>
        </p:nvSpPr>
        <p:spPr>
          <a:xfrm>
            <a:off x="704880" y="11430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verso se stesso e verso gli altri; nel rispetto e nella valorizzazione delle proprie e delle altrui risorse, si realizza favorendo la crescita reciproca e attuando cambia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ssert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7484-D2DF-4BC2-97D0-0FC26297BC9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1438200" y="15238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810040" y="390204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6306120" y="2590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O SPAZI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862680" y="15238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POS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047600" y="259092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ESPRESSIONE FAC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365200" y="51055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ONO E L’INFLESSIONE DELLA V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628640" y="367344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GESTUALITA’ DELLE 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ponenti non verb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5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DF1E-6779-4E78-AE30-3A799BB9EE8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027"/>
          <p:cNvSpPr/>
          <p:nvPr/>
        </p:nvSpPr>
        <p:spPr>
          <a:xfrm>
            <a:off x="685800" y="121428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A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condizionato e influenz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ubis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i op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Ha un’elevata ansia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benevolenza degli altri e fuga dal confli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28"/>
          <p:cNvSpPr/>
          <p:nvPr/>
        </p:nvSpPr>
        <p:spPr>
          <a:xfrm>
            <a:off x="5410080" y="1214280"/>
            <a:ext cx="3810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GGRE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 s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revarica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coercitivi e distrut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potere personale e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F75B-D1A2-4AD8-8F68-5086717D3E1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1523880" y="1143000"/>
            <a:ext cx="670572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ER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a se’ e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è condizion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motivanti e gratific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successo personale e con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294-734F-4346-8627-BEAB314812C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85720" y="2928960"/>
            <a:ext cx="693396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b587c"/>
                </a:solidFill>
                <a:latin typeface="Century Gothic"/>
              </a:rPr>
              <a:t>Lavorare in gruppo</a:t>
            </a:r>
            <a:endParaRPr b="0" lang="en-US" sz="32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01" name="Segnaposto numero diapositiva 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57F7-AE54-418F-8930-9997A8C11CC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grupp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776160" y="1329840"/>
            <a:ext cx="8033040" cy="32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49320" bIns="0" anchor="ctr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Almeno due pers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he si danno un’organizz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per raggiungere uno o più obiett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6CDF-1563-4390-A843-3E9699D38AA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4210200" y="2286000"/>
            <a:ext cx="2806560" cy="2525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664160" cy="1676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3"/>
          <a:stretch/>
        </p:blipFill>
        <p:spPr>
          <a:xfrm>
            <a:off x="6934320" y="0"/>
            <a:ext cx="2614320" cy="1727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"/>
          <p:cNvPicPr/>
          <p:nvPr/>
        </p:nvPicPr>
        <p:blipFill>
          <a:blip r:embed="rId4"/>
          <a:stretch/>
        </p:blipFill>
        <p:spPr>
          <a:xfrm>
            <a:off x="0" y="2362320"/>
            <a:ext cx="2806560" cy="2641320"/>
          </a:xfrm>
          <a:prstGeom prst="rect">
            <a:avLst/>
          </a:prstGeom>
          <a:ln w="0">
            <a:noFill/>
          </a:ln>
        </p:spPr>
      </p:pic>
      <p:grpSp>
        <p:nvGrpSpPr>
          <p:cNvPr id="409" name="Group 6"/>
          <p:cNvGrpSpPr/>
          <p:nvPr/>
        </p:nvGrpSpPr>
        <p:grpSpPr>
          <a:xfrm>
            <a:off x="4808160" y="0"/>
            <a:ext cx="1671480" cy="2192400"/>
            <a:chOff x="4808160" y="0"/>
            <a:chExt cx="1671480" cy="2192400"/>
          </a:xfrm>
        </p:grpSpPr>
        <p:pic>
          <p:nvPicPr>
            <p:cNvPr id="410" name="Picture 7" descr=""/>
            <p:cNvPicPr/>
            <p:nvPr/>
          </p:nvPicPr>
          <p:blipFill>
            <a:blip r:embed="rId5"/>
            <a:stretch/>
          </p:blipFill>
          <p:spPr>
            <a:xfrm>
              <a:off x="5007600" y="0"/>
              <a:ext cx="1472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Rectangle 8"/>
            <p:cNvSpPr/>
            <p:nvPr/>
          </p:nvSpPr>
          <p:spPr>
            <a:xfrm>
              <a:off x="4808160" y="16765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4995000" y="1917720"/>
              <a:ext cx="105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10" descr=""/>
          <p:cNvPicPr/>
          <p:nvPr/>
        </p:nvPicPr>
        <p:blipFill>
          <a:blip r:embed="rId6"/>
          <a:stretch/>
        </p:blipFill>
        <p:spPr>
          <a:xfrm>
            <a:off x="7346880" y="1752480"/>
            <a:ext cx="1940040" cy="198144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11"/>
          <p:cNvGrpSpPr/>
          <p:nvPr/>
        </p:nvGrpSpPr>
        <p:grpSpPr>
          <a:xfrm>
            <a:off x="7743960" y="3657600"/>
            <a:ext cx="2161800" cy="2044800"/>
            <a:chOff x="7743960" y="3657600"/>
            <a:chExt cx="2161800" cy="2044800"/>
          </a:xfrm>
        </p:grpSpPr>
        <p:graphicFrame>
          <p:nvGraphicFramePr>
            <p:cNvPr id="415" name="Object 4"/>
            <p:cNvGraphicFramePr/>
            <p:nvPr/>
          </p:nvGraphicFramePr>
          <p:xfrm>
            <a:off x="7743960" y="3657600"/>
            <a:ext cx="2161800" cy="1087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6" name="Object 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657600"/>
                      <a:ext cx="2161800" cy="10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7" name="Picture 13" descr=""/>
            <p:cNvPicPr/>
            <p:nvPr/>
          </p:nvPicPr>
          <p:blipFill>
            <a:blip r:embed="rId9"/>
            <a:stretch/>
          </p:blipFill>
          <p:spPr>
            <a:xfrm>
              <a:off x="7743960" y="4724280"/>
              <a:ext cx="2146320" cy="97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Picture 14" descr=""/>
          <p:cNvPicPr/>
          <p:nvPr/>
        </p:nvPicPr>
        <p:blipFill>
          <a:blip r:embed="rId10"/>
          <a:stretch/>
        </p:blipFill>
        <p:spPr>
          <a:xfrm>
            <a:off x="0" y="5295960"/>
            <a:ext cx="2367000" cy="1562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"/>
          <p:cNvPicPr/>
          <p:nvPr/>
        </p:nvPicPr>
        <p:blipFill>
          <a:blip r:embed="rId11"/>
          <a:stretch/>
        </p:blipFill>
        <p:spPr>
          <a:xfrm>
            <a:off x="2558880" y="5473800"/>
            <a:ext cx="2945160" cy="1384200"/>
          </a:xfrm>
          <a:prstGeom prst="rect">
            <a:avLst/>
          </a:prstGeom>
          <a:ln w="0">
            <a:noFill/>
          </a:ln>
        </p:spPr>
      </p:pic>
      <p:pic>
        <p:nvPicPr>
          <p:cNvPr id="420" name="Group 16" descr=""/>
          <p:cNvPicPr/>
          <p:nvPr/>
        </p:nvPicPr>
        <p:blipFill>
          <a:blip r:embed="rId12"/>
          <a:stretch/>
        </p:blipFill>
        <p:spPr>
          <a:xfrm>
            <a:off x="5450040" y="4803840"/>
            <a:ext cx="3833640" cy="2114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9"/>
          <p:cNvGrpSpPr/>
          <p:nvPr/>
        </p:nvGrpSpPr>
        <p:grpSpPr>
          <a:xfrm>
            <a:off x="1913760" y="1752480"/>
            <a:ext cx="2201400" cy="1938240"/>
            <a:chOff x="1913760" y="1752480"/>
            <a:chExt cx="2201400" cy="1938240"/>
          </a:xfrm>
        </p:grpSpPr>
        <p:graphicFrame>
          <p:nvGraphicFramePr>
            <p:cNvPr id="422" name="Object 2"/>
            <p:cNvGraphicFramePr/>
            <p:nvPr/>
          </p:nvGraphicFramePr>
          <p:xfrm>
            <a:off x="2228760" y="1752480"/>
            <a:ext cx="1815840" cy="1235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3" name="Object 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28760" y="1752480"/>
                      <a:ext cx="1815840" cy="12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4" name="Text Box 21"/>
            <p:cNvSpPr/>
            <p:nvPr/>
          </p:nvSpPr>
          <p:spPr>
            <a:xfrm>
              <a:off x="1913760" y="3048120"/>
              <a:ext cx="2201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ALORI DI FO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NDIVI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2"/>
          <p:cNvGrpSpPr/>
          <p:nvPr/>
        </p:nvGrpSpPr>
        <p:grpSpPr>
          <a:xfrm>
            <a:off x="2409840" y="3581280"/>
            <a:ext cx="2174040" cy="2020680"/>
            <a:chOff x="2409840" y="3581280"/>
            <a:chExt cx="2174040" cy="2020680"/>
          </a:xfrm>
        </p:grpSpPr>
        <p:pic>
          <p:nvPicPr>
            <p:cNvPr id="426" name="Picture 23" descr=""/>
            <p:cNvPicPr/>
            <p:nvPr/>
          </p:nvPicPr>
          <p:blipFill>
            <a:blip r:embed="rId15"/>
            <a:stretch/>
          </p:blipFill>
          <p:spPr>
            <a:xfrm>
              <a:off x="2926800" y="3581280"/>
              <a:ext cx="13464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24"/>
            <p:cNvSpPr/>
            <p:nvPr/>
          </p:nvSpPr>
          <p:spPr>
            <a:xfrm>
              <a:off x="2409840" y="4959360"/>
              <a:ext cx="217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PACITA’ D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REND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660240" y="859320"/>
            <a:ext cx="8936280" cy="524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6800" rIns="10044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UN BUON CLIMA DI GRUPPO NON E’ ALTRO CHE LA SENSAZIONE DI BENESSERE NELLO STARE INSIEME, DIFFUSA TRA I PARTECIP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OME SI REALIZ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OMUNICANDO IN MODO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SVILUPPANDO RAPPORTI INTERPERSONALI MIRATI ALLA CONOSCENZA ED ALLA FIDUCIA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RAFFORZANDO LA CONDIVISIONE DEI VAL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VALORIZZANDO IL CONTRIBUTO DI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lima 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278E-350B-41D6-8483-65939484CCA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Noi e gli alt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432" name="Picture 18" descr=""/>
          <p:cNvPicPr/>
          <p:nvPr/>
        </p:nvPicPr>
        <p:blipFill>
          <a:blip r:embed="rId1"/>
          <a:stretch/>
        </p:blipFill>
        <p:spPr>
          <a:xfrm>
            <a:off x="1442880" y="1068480"/>
            <a:ext cx="7021800" cy="5097240"/>
          </a:xfrm>
          <a:prstGeom prst="rect">
            <a:avLst/>
          </a:prstGeom>
          <a:ln w="0">
            <a:noFill/>
          </a:ln>
        </p:spPr>
      </p:pic>
      <p:sp>
        <p:nvSpPr>
          <p:cNvPr id="43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00E5-A939-45C0-A9CB-0BD24B5BCE2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1697040" y="1087560"/>
            <a:ext cx="6512040" cy="2190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voluzione nel lavoro in team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6" name="CasellaDiTesto 5"/>
          <p:cNvSpPr/>
          <p:nvPr/>
        </p:nvSpPr>
        <p:spPr>
          <a:xfrm>
            <a:off x="666720" y="3500280"/>
            <a:ext cx="91216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 un gruppo di recente formazione l’area APERTA è molto piccola, non c’è molta interazione libera e sponta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ia via che il gruppo cresce e matura, l’area APERTA si espande perché ci si sente più liberi di esprimersi e di comunicare, l’area NASCOSTA, di conseguenza, si contr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’area CIECA si modifica più lentamente e in maniera diversificata, mano a mano che le aperture sono più consapevoli; l’area IGNOTA si modifica ancora più len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B8D4-B2D9-4CEC-B044-AB009AD15AC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3"/>
          <p:cNvSpPr/>
          <p:nvPr/>
        </p:nvSpPr>
        <p:spPr>
          <a:xfrm>
            <a:off x="649440" y="1219320"/>
            <a:ext cx="9064440" cy="64260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GARE L’ESISTENZA D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FRA DI NOI E’ TUTTO 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633240" y="2209680"/>
            <a:ext cx="9080640" cy="642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TTRIBUIRE AGLI ALTRI LA CAUSA DE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’ TUTTA COLPA LO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33240" y="3200400"/>
            <a:ext cx="9080640" cy="642600"/>
          </a:xfrm>
          <a:prstGeom prst="rect">
            <a:avLst/>
          </a:prstGeom>
          <a:solidFill>
            <a:srgbClr val="9f293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CCETTARE LA PROPRIA RESPONSABI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CI CREIAMO RECIPROCAMENTE DEI PROBL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649440" y="4191120"/>
            <a:ext cx="9064440" cy="642600"/>
          </a:xfrm>
          <a:prstGeom prst="rect">
            <a:avLst/>
          </a:prstGeom>
          <a:solidFill>
            <a:srgbClr val="f07f0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VORARE SUI PROBLEMI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TROVIAMO INSIEME LE SOLUZI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649440" y="5181480"/>
            <a:ext cx="9064440" cy="9169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ICIPARE L’EMERGERE DE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EFINIAMO MECCANISMI FORMALI O INFOR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TRATTARE PROBLEMI RICORR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41840" y="121428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141840" y="221616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41840" y="319572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41840" y="418608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41840" y="533412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 sviluppo delle relazioni nel grup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49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C020-A634-48B0-96F7-0B697870F52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funzio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588960" y="876600"/>
            <a:ext cx="8935920" cy="54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6800" rIns="10044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IL GRUPPO HA UNA FONDAMENTALE DIMENSIONE FUNZIONALE CHE SI COSTRUISCE E MANTIENE ATTRAVER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CHIAREZZA E LA CONDIVISIONE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PPLICAZIONE DI MODALITA’ ORGANIZZATIVE ED OPERATIVE ADE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PRESENZA DELLE COMPETENZE NECESS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COSTRUZIONE DI UN METODO COMUNE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TTIVAZIONE DI MOMENTI DI AUTO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IL FUNZIONAMENTO DI UNA LEADERSHIP POS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TTIVAZIONE E LO STIMOLO DI PROCESSI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81E4-548E-4F6B-8222-D1DFC3B0196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882720" y="1428840"/>
            <a:ext cx="79941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, PREC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LETEZZA SINTETIC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ES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TERESSE (DEL TRASMITTENTE E DEL RICEV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quisiti della 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1358-3C6B-4903-8570-0A31FF36D45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2341440" y="1600200"/>
            <a:ext cx="4772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FUNZIONI DI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480" y="3429000"/>
            <a:ext cx="24087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FUN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6632640" y="3429000"/>
            <a:ext cx="22716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3213360" y="1578240"/>
            <a:ext cx="3782880" cy="3679200"/>
            <a:chOff x="3213360" y="1578240"/>
            <a:chExt cx="3782880" cy="3679200"/>
          </a:xfrm>
        </p:grpSpPr>
        <p:sp>
          <p:nvSpPr>
            <p:cNvPr id="457" name="Freeform 7"/>
            <p:cNvSpPr/>
            <p:nvPr/>
          </p:nvSpPr>
          <p:spPr>
            <a:xfrm rot="18664200">
              <a:off x="4149720" y="1823400"/>
              <a:ext cx="1710000" cy="2327400"/>
            </a:xfrm>
            <a:custGeom>
              <a:avLst/>
              <a:gdLst>
                <a:gd name="textAreaLeft" fmla="*/ 0 w 1710000"/>
                <a:gd name="textAreaRight" fmla="*/ 1710360 w 171000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"/>
            <p:cNvSpPr/>
            <p:nvPr/>
          </p:nvSpPr>
          <p:spPr>
            <a:xfrm rot="18664200">
              <a:off x="4623120" y="3285720"/>
              <a:ext cx="2273400" cy="129852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9"/>
            <p:cNvSpPr/>
            <p:nvPr/>
          </p:nvSpPr>
          <p:spPr>
            <a:xfrm rot="18664200">
              <a:off x="3890160" y="2905560"/>
              <a:ext cx="1145880" cy="2317320"/>
            </a:xfrm>
            <a:custGeom>
              <a:avLst/>
              <a:gdLst>
                <a:gd name="textAreaLeft" fmla="*/ 0 w 1145880"/>
                <a:gd name="textAreaRight" fmla="*/ 1145880 w 1145880"/>
                <a:gd name="textAreaTop" fmla="*/ 0 h 2317320"/>
                <a:gd name="textAreaBottom" fmla="*/ 2317680 h 231732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"/>
            <p:cNvSpPr/>
            <p:nvPr/>
          </p:nvSpPr>
          <p:spPr>
            <a:xfrm rot="18664200">
              <a:off x="4060080" y="1864080"/>
              <a:ext cx="1710000" cy="2089800"/>
            </a:xfrm>
            <a:custGeom>
              <a:avLst/>
              <a:gdLst>
                <a:gd name="textAreaLeft" fmla="*/ 0 w 1710000"/>
                <a:gd name="textAreaRight" fmla="*/ 1710360 w 1710000"/>
                <a:gd name="textAreaTop" fmla="*/ 0 h 2089800"/>
                <a:gd name="textAreaBottom" fmla="*/ 2090160 h 20898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.A.I.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2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5374-ABA3-4B0C-9108-7E1D5F338B7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1270440" y="1600200"/>
            <a:ext cx="1846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096200" y="2514600"/>
            <a:ext cx="208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CHIAR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887480" y="3657600"/>
            <a:ext cx="104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ES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5800680" y="1600200"/>
            <a:ext cx="200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RACCOLTA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5588280" y="2438280"/>
            <a:ext cx="2328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INTERPRE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759280" y="3581280"/>
            <a:ext cx="2075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ANALOGIE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FATTI CONCR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4292640" y="16002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1"/>
          <p:cNvSpPr/>
          <p:nvPr/>
        </p:nvSpPr>
        <p:spPr>
          <a:xfrm>
            <a:off x="4375080" y="25146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2"/>
          <p:cNvSpPr/>
          <p:nvPr/>
        </p:nvSpPr>
        <p:spPr>
          <a:xfrm>
            <a:off x="4375080" y="36576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784080" y="4749840"/>
            <a:ext cx="5883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ERRORE PIU’ COMUNE:GRUPPO IPERPRODU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442520" y="5359320"/>
            <a:ext cx="4960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OVERDOSE DI CONTRIBUTI/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A SCAPITO DELLA FASE DECI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e di produ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5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B3CF-D617-440B-A9B3-60A71542AAD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1171440" y="1371600"/>
            <a:ext cx="260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UTOAFFE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5131800" y="1295280"/>
            <a:ext cx="2393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DIFESA DI OPIN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DEE POS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680400" y="2743200"/>
            <a:ext cx="3164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NFLUENZA/PERSUA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5118120" y="2666880"/>
            <a:ext cx="44575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ESERCIZIO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PERSUASIONE SUGLI ALTRI MEMBRI DELGRUPPO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NVINCERLI DELLA BONTA’ DELLA PROPRIA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194480" y="4732200"/>
            <a:ext cx="5349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RRORE PIU’ COMUNE:GRUPPO INES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758960" y="5265720"/>
            <a:ext cx="4338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GGRESSIVITA’/IPERCOMPETI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TTITUDINE A CREARE OSTA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STRANE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 flipV="1">
            <a:off x="2889360" y="1904400"/>
            <a:ext cx="1238040" cy="609480"/>
          </a:xfrm>
          <a:custGeom>
            <a:avLst/>
            <a:gdLst>
              <a:gd name="textAreaLeft" fmla="*/ 712440 w 1238040"/>
              <a:gd name="textAreaRight" fmla="*/ 1044720 w 123804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 flipV="1">
            <a:off x="2971800" y="3276000"/>
            <a:ext cx="1238400" cy="609480"/>
          </a:xfrm>
          <a:custGeom>
            <a:avLst/>
            <a:gdLst>
              <a:gd name="textAreaLeft" fmla="*/ 712440 w 1238400"/>
              <a:gd name="textAreaRight" fmla="*/ 1045080 w 123840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i individu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5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88F2-0696-45E4-8F30-E0DE3552007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1006560" y="1295280"/>
            <a:ext cx="2277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OINVOLG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4540320" y="1219320"/>
            <a:ext cx="46227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MANTENERE A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TUTTI I CANALI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COMUN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MANTENERE AT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TUTTI I MEMBRI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06560" y="2895480"/>
            <a:ext cx="1896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INTE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40320" y="2971800"/>
            <a:ext cx="5035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CONCILIAZIONE DI DISACCO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RIDUZIONE DI TE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127880" y="4724280"/>
            <a:ext cx="561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ERRORE PIU’ COMUNE:GRUPPO ASSIS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2064240" y="5334120"/>
            <a:ext cx="4053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ENTRALITA’ DEL “VOLERSI BE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ANCHE A SCAPITO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RISULTATO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1027800" y="3809880"/>
            <a:ext cx="1730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MEDI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4292640" y="3886200"/>
            <a:ext cx="5283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FORMULARE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FARE SINTESI DI OPINIONI D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2"/>
          <p:cNvSpPr/>
          <p:nvPr/>
        </p:nvSpPr>
        <p:spPr>
          <a:xfrm flipV="1">
            <a:off x="1816200" y="2209680"/>
            <a:ext cx="2228760" cy="533520"/>
          </a:xfrm>
          <a:custGeom>
            <a:avLst/>
            <a:gdLst>
              <a:gd name="textAreaLeft" fmla="*/ 1282320 w 2228760"/>
              <a:gd name="textAreaRight" fmla="*/ 1881000 w 2228760"/>
              <a:gd name="textAreaTop" fmla="*/ 72000 h 533520"/>
              <a:gd name="textAreaBottom" fmla="*/ 2286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3879720" y="2971800"/>
            <a:ext cx="578160" cy="762120"/>
          </a:xfrm>
          <a:custGeom>
            <a:avLst/>
            <a:gdLst>
              <a:gd name="textAreaLeft" fmla="*/ 72000 w 578160"/>
              <a:gd name="textAreaRight" fmla="*/ 506160 w 5781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4"/>
          <p:cNvSpPr/>
          <p:nvPr/>
        </p:nvSpPr>
        <p:spPr>
          <a:xfrm>
            <a:off x="3632040" y="3886200"/>
            <a:ext cx="578160" cy="762120"/>
          </a:xfrm>
          <a:custGeom>
            <a:avLst/>
            <a:gdLst>
              <a:gd name="textAreaLeft" fmla="*/ 72000 w 578160"/>
              <a:gd name="textAreaRight" fmla="*/ 506160 w 5781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i di assiste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8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E14F-2F7A-4183-917C-9DABFF9EC14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3"/>
          <p:cNvSpPr/>
          <p:nvPr/>
        </p:nvSpPr>
        <p:spPr>
          <a:xfrm>
            <a:off x="2351520" y="2022480"/>
            <a:ext cx="48502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FUNZIONI DI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ASSISTITE DA UN ME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91480" y="3317760"/>
            <a:ext cx="30762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FUN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DA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COORDIN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5824800" y="3317760"/>
            <a:ext cx="31374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ASSIS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AUTO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6"/>
          <p:cNvGrpSpPr/>
          <p:nvPr/>
        </p:nvGrpSpPr>
        <p:grpSpPr>
          <a:xfrm>
            <a:off x="3446640" y="2652480"/>
            <a:ext cx="3011040" cy="2900520"/>
            <a:chOff x="3446640" y="2652480"/>
            <a:chExt cx="3011040" cy="2900520"/>
          </a:xfrm>
        </p:grpSpPr>
        <p:sp>
          <p:nvSpPr>
            <p:cNvPr id="503" name="Freeform 7"/>
            <p:cNvSpPr/>
            <p:nvPr/>
          </p:nvSpPr>
          <p:spPr>
            <a:xfrm rot="18664200">
              <a:off x="4214160" y="2765520"/>
              <a:ext cx="1218960" cy="20188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 rot="18664200">
              <a:off x="4690440" y="4008600"/>
              <a:ext cx="1620360" cy="112644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126440"/>
                <a:gd name="textAreaBottom" fmla="*/ 1126800 h 112644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rot="18664200">
              <a:off x="4064040" y="3568320"/>
              <a:ext cx="816840" cy="200988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 rot="18664200">
              <a:off x="4136400" y="2801160"/>
              <a:ext cx="1218960" cy="18126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Buon funzionamento del grup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8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4C6-A732-47E7-A088-1DCD14C64AB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ili di coordi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0" name="Segnaposto numero diapositiva 2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C5BF-FFEB-402B-BBF8-C1114A90D20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e 2"/>
          <p:cNvSpPr/>
          <p:nvPr/>
        </p:nvSpPr>
        <p:spPr>
          <a:xfrm>
            <a:off x="660240" y="3865680"/>
            <a:ext cx="4710240" cy="236196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riangolo isoscele 3"/>
          <p:cNvSpPr/>
          <p:nvPr/>
        </p:nvSpPr>
        <p:spPr>
          <a:xfrm>
            <a:off x="5624640" y="925560"/>
            <a:ext cx="3681360" cy="2419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ttore 1 5"/>
          <p:cNvSpPr/>
          <p:nvPr/>
        </p:nvSpPr>
        <p:spPr>
          <a:xfrm flipH="1">
            <a:off x="6550200" y="924840"/>
            <a:ext cx="91440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Connettore 1 7"/>
          <p:cNvSpPr/>
          <p:nvPr/>
        </p:nvSpPr>
        <p:spPr>
          <a:xfrm>
            <a:off x="7464600" y="925560"/>
            <a:ext cx="40608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onnettore 1 8"/>
          <p:cNvSpPr/>
          <p:nvPr/>
        </p:nvSpPr>
        <p:spPr>
          <a:xfrm flipH="1">
            <a:off x="7210440" y="924840"/>
            <a:ext cx="25416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onnettore 1 9"/>
          <p:cNvSpPr/>
          <p:nvPr/>
        </p:nvSpPr>
        <p:spPr>
          <a:xfrm>
            <a:off x="7463880" y="925560"/>
            <a:ext cx="1076040" cy="2419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onnettore 1 18"/>
          <p:cNvSpPr/>
          <p:nvPr/>
        </p:nvSpPr>
        <p:spPr>
          <a:xfrm flipH="1">
            <a:off x="1349280" y="421092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nettore 1 20"/>
          <p:cNvSpPr/>
          <p:nvPr/>
        </p:nvSpPr>
        <p:spPr>
          <a:xfrm>
            <a:off x="1349280" y="4211640"/>
            <a:ext cx="402120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onnettore 1 22"/>
          <p:cNvSpPr/>
          <p:nvPr/>
        </p:nvSpPr>
        <p:spPr>
          <a:xfrm>
            <a:off x="660240" y="5046840"/>
            <a:ext cx="235440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onnettore 1 24"/>
          <p:cNvSpPr/>
          <p:nvPr/>
        </p:nvSpPr>
        <p:spPr>
          <a:xfrm flipH="1" flipV="1">
            <a:off x="1349280" y="4211640"/>
            <a:ext cx="1665360" cy="2016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onnettore 1 28"/>
          <p:cNvSpPr/>
          <p:nvPr/>
        </p:nvSpPr>
        <p:spPr>
          <a:xfrm flipH="1" flipV="1">
            <a:off x="660240" y="5046480"/>
            <a:ext cx="4019760" cy="8348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e 29"/>
          <p:cNvSpPr/>
          <p:nvPr/>
        </p:nvSpPr>
        <p:spPr>
          <a:xfrm>
            <a:off x="2940120" y="3797280"/>
            <a:ext cx="115920" cy="13824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onnettore 1 31"/>
          <p:cNvSpPr/>
          <p:nvPr/>
        </p:nvSpPr>
        <p:spPr>
          <a:xfrm>
            <a:off x="4680000" y="4213080"/>
            <a:ext cx="1440" cy="16686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nettore 1 33"/>
          <p:cNvSpPr/>
          <p:nvPr/>
        </p:nvSpPr>
        <p:spPr>
          <a:xfrm flipH="1">
            <a:off x="3014640" y="5046840"/>
            <a:ext cx="235584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onnettore 1 35"/>
          <p:cNvSpPr/>
          <p:nvPr/>
        </p:nvSpPr>
        <p:spPr>
          <a:xfrm>
            <a:off x="1349280" y="421164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nettore 1 37"/>
          <p:cNvSpPr/>
          <p:nvPr/>
        </p:nvSpPr>
        <p:spPr>
          <a:xfrm flipH="1">
            <a:off x="660240" y="4211640"/>
            <a:ext cx="401976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rco 43"/>
          <p:cNvSpPr/>
          <p:nvPr/>
        </p:nvSpPr>
        <p:spPr>
          <a:xfrm>
            <a:off x="1724040" y="3727440"/>
            <a:ext cx="2616120" cy="1030320"/>
          </a:xfrm>
          <a:custGeom>
            <a:avLst/>
            <a:gdLst/>
            <a:ahLst/>
            <a:rect l="l" t="t" r="r" b="b"/>
            <a:pathLst>
              <a:path stroke="0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  <a:lnTo>
                  <a:pt x="1308100" y="515144"/>
                </a:lnTo>
                <a:lnTo>
                  <a:pt x="1308100" y="0"/>
                </a:lnTo>
                <a:close/>
              </a:path>
              <a:path fill="none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</a:path>
            </a:pathLst>
          </a:custGeom>
          <a:noFill/>
          <a:ln w="28440">
            <a:solidFill>
              <a:srgbClr val="f07f0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Arco 44" descr=""/>
          <p:cNvPicPr/>
          <p:nvPr/>
        </p:nvPicPr>
        <p:blipFill>
          <a:blip r:embed="rId1"/>
          <a:stretch/>
        </p:blipFill>
        <p:spPr>
          <a:xfrm>
            <a:off x="2000160" y="3676680"/>
            <a:ext cx="998640" cy="315720"/>
          </a:xfrm>
          <a:prstGeom prst="rect">
            <a:avLst/>
          </a:prstGeom>
          <a:ln w="0">
            <a:noFill/>
          </a:ln>
        </p:spPr>
      </p:pic>
      <p:sp>
        <p:nvSpPr>
          <p:cNvPr id="529" name="Ovale 21"/>
          <p:cNvSpPr/>
          <p:nvPr/>
        </p:nvSpPr>
        <p:spPr>
          <a:xfrm>
            <a:off x="7397640" y="870120"/>
            <a:ext cx="115920" cy="13788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3"/>
          <p:cNvSpPr/>
          <p:nvPr/>
        </p:nvSpPr>
        <p:spPr>
          <a:xfrm>
            <a:off x="3737880" y="1903320"/>
            <a:ext cx="1777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NOTAI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646200" y="3503520"/>
            <a:ext cx="2999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METODOLO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6373440" y="3503520"/>
            <a:ext cx="2526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MEDIATO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6"/>
          <p:cNvGrpSpPr/>
          <p:nvPr/>
        </p:nvGrpSpPr>
        <p:grpSpPr>
          <a:xfrm>
            <a:off x="3760920" y="2990520"/>
            <a:ext cx="3011040" cy="2900520"/>
            <a:chOff x="3760920" y="2990520"/>
            <a:chExt cx="3011040" cy="2900520"/>
          </a:xfrm>
        </p:grpSpPr>
        <p:sp>
          <p:nvSpPr>
            <p:cNvPr id="534" name="Freeform 7"/>
            <p:cNvSpPr/>
            <p:nvPr/>
          </p:nvSpPr>
          <p:spPr>
            <a:xfrm rot="18664200">
              <a:off x="4528440" y="3103560"/>
              <a:ext cx="1218960" cy="20188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8"/>
            <p:cNvSpPr/>
            <p:nvPr/>
          </p:nvSpPr>
          <p:spPr>
            <a:xfrm rot="18664200">
              <a:off x="5004720" y="4346640"/>
              <a:ext cx="1620360" cy="112644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126440"/>
                <a:gd name="textAreaBottom" fmla="*/ 1126800 h 112644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"/>
            <p:cNvSpPr/>
            <p:nvPr/>
          </p:nvSpPr>
          <p:spPr>
            <a:xfrm rot="18664200">
              <a:off x="4378320" y="3906360"/>
              <a:ext cx="816840" cy="200988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"/>
            <p:cNvSpPr/>
            <p:nvPr/>
          </p:nvSpPr>
          <p:spPr>
            <a:xfrm rot="18664200">
              <a:off x="4450680" y="3139200"/>
              <a:ext cx="1218960" cy="18126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12"/>
          <p:cNvSpPr/>
          <p:nvPr/>
        </p:nvSpPr>
        <p:spPr>
          <a:xfrm>
            <a:off x="2496600" y="2589120"/>
            <a:ext cx="4262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REGISTRARE I CONTRIBUTI DI TU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891360" y="4189320"/>
            <a:ext cx="18846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PRESIDI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METOD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6780600" y="4646520"/>
            <a:ext cx="1489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REG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GLI SC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 del coordinat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2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53DE-D07E-401A-83C9-1C10034B127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stili di leadership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676440" y="1623960"/>
            <a:ext cx="3206520" cy="3059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5583240" y="1716120"/>
            <a:ext cx="3206880" cy="3058920"/>
          </a:xfrm>
          <a:prstGeom prst="rect">
            <a:avLst/>
          </a:prstGeom>
          <a:ln w="0">
            <a:noFill/>
          </a:ln>
        </p:spPr>
      </p:pic>
      <p:sp>
        <p:nvSpPr>
          <p:cNvPr id="546" name="CasellaDiTesto 4"/>
          <p:cNvSpPr/>
          <p:nvPr/>
        </p:nvSpPr>
        <p:spPr>
          <a:xfrm>
            <a:off x="1189800" y="53942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adership situ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sellaDiTesto 5"/>
          <p:cNvSpPr/>
          <p:nvPr/>
        </p:nvSpPr>
        <p:spPr>
          <a:xfrm>
            <a:off x="6256440" y="539604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iglia manag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3000-58CA-44AC-9250-E4A21AD54F3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3"/>
          <p:cNvGraphicFramePr/>
          <p:nvPr/>
        </p:nvGraphicFramePr>
        <p:xfrm>
          <a:off x="1476360" y="1128600"/>
          <a:ext cx="7039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8600"/>
                    <a:ext cx="7039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1" name="Group 4"/>
          <p:cNvGrpSpPr/>
          <p:nvPr/>
        </p:nvGrpSpPr>
        <p:grpSpPr>
          <a:xfrm>
            <a:off x="1049040" y="1233360"/>
            <a:ext cx="298800" cy="4350600"/>
            <a:chOff x="1049040" y="1233360"/>
            <a:chExt cx="298800" cy="4350600"/>
          </a:xfrm>
        </p:grpSpPr>
        <p:sp>
          <p:nvSpPr>
            <p:cNvPr id="552" name="Text Box 5"/>
            <p:cNvSpPr/>
            <p:nvPr/>
          </p:nvSpPr>
          <p:spPr>
            <a:xfrm>
              <a:off x="1054080" y="5276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1068120" y="32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"/>
            <p:cNvSpPr/>
            <p:nvPr/>
          </p:nvSpPr>
          <p:spPr>
            <a:xfrm>
              <a:off x="1068120" y="2757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8"/>
            <p:cNvSpPr/>
            <p:nvPr/>
          </p:nvSpPr>
          <p:spPr>
            <a:xfrm>
              <a:off x="1068120" y="224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9"/>
            <p:cNvSpPr/>
            <p:nvPr/>
          </p:nvSpPr>
          <p:spPr>
            <a:xfrm>
              <a:off x="1068120" y="175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0"/>
            <p:cNvSpPr/>
            <p:nvPr/>
          </p:nvSpPr>
          <p:spPr>
            <a:xfrm>
              <a:off x="1068120" y="123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1"/>
            <p:cNvSpPr/>
            <p:nvPr/>
          </p:nvSpPr>
          <p:spPr>
            <a:xfrm>
              <a:off x="1062000" y="477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2"/>
            <p:cNvSpPr/>
            <p:nvPr/>
          </p:nvSpPr>
          <p:spPr>
            <a:xfrm>
              <a:off x="1049040" y="426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3"/>
            <p:cNvSpPr/>
            <p:nvPr/>
          </p:nvSpPr>
          <p:spPr>
            <a:xfrm>
              <a:off x="1068120" y="3762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4"/>
          <p:cNvGrpSpPr/>
          <p:nvPr/>
        </p:nvGrpSpPr>
        <p:grpSpPr>
          <a:xfrm>
            <a:off x="1699920" y="5791320"/>
            <a:ext cx="6528240" cy="307080"/>
            <a:chOff x="1699920" y="5791320"/>
            <a:chExt cx="6528240" cy="307080"/>
          </a:xfrm>
        </p:grpSpPr>
        <p:sp>
          <p:nvSpPr>
            <p:cNvPr id="562" name="Text Box 15"/>
            <p:cNvSpPr/>
            <p:nvPr/>
          </p:nvSpPr>
          <p:spPr>
            <a:xfrm>
              <a:off x="16999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6"/>
            <p:cNvSpPr/>
            <p:nvPr/>
          </p:nvSpPr>
          <p:spPr>
            <a:xfrm>
              <a:off x="480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7"/>
            <p:cNvSpPr/>
            <p:nvPr/>
          </p:nvSpPr>
          <p:spPr>
            <a:xfrm>
              <a:off x="559728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8"/>
            <p:cNvSpPr/>
            <p:nvPr/>
          </p:nvSpPr>
          <p:spPr>
            <a:xfrm>
              <a:off x="63482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9"/>
            <p:cNvSpPr/>
            <p:nvPr/>
          </p:nvSpPr>
          <p:spPr>
            <a:xfrm>
              <a:off x="71863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0"/>
            <p:cNvSpPr/>
            <p:nvPr/>
          </p:nvSpPr>
          <p:spPr>
            <a:xfrm>
              <a:off x="79484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1"/>
            <p:cNvSpPr/>
            <p:nvPr/>
          </p:nvSpPr>
          <p:spPr>
            <a:xfrm>
              <a:off x="246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2"/>
            <p:cNvSpPr/>
            <p:nvPr/>
          </p:nvSpPr>
          <p:spPr>
            <a:xfrm>
              <a:off x="32526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3"/>
            <p:cNvSpPr/>
            <p:nvPr/>
          </p:nvSpPr>
          <p:spPr>
            <a:xfrm>
              <a:off x="40338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24"/>
          <p:cNvSpPr/>
          <p:nvPr/>
        </p:nvSpPr>
        <p:spPr>
          <a:xfrm rot="16174200">
            <a:off x="-1148400" y="3240720"/>
            <a:ext cx="39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gl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2929680" y="60580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riglia manageri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4" name="Segnaposto numero diapositiva 2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37AF-7EB9-484B-9ADA-97EF2D040E8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adership situ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2611440" y="1322280"/>
            <a:ext cx="4684680" cy="4913280"/>
          </a:xfrm>
          <a:prstGeom prst="rect">
            <a:avLst/>
          </a:prstGeom>
          <a:ln w="0">
            <a:noFill/>
          </a:ln>
        </p:spPr>
      </p:pic>
      <p:sp>
        <p:nvSpPr>
          <p:cNvPr id="57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7EB5-0AEA-45E9-BD65-B9FE832EB9F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800800" y="1101600"/>
            <a:ext cx="41644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RR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 AI TERMINI IN “GER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PONTANE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EN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OLLERARE L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SO DELLA V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i importanti accorgiment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111A-8216-40A4-AEB9-4B8CE9757D1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cide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9" name="Rettangolo 27"/>
          <p:cNvSpPr/>
          <p:nvPr/>
        </p:nvSpPr>
        <p:spPr>
          <a:xfrm>
            <a:off x="566640" y="1200240"/>
            <a:ext cx="842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RE L'OBIETTIVO/RISULTATO VOL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ABILIRE I CRITERI IRRINUNCIABILI AI QUALI DOVRÀ RISPONDERE LA SOLUZIONE PRE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ABILIRE ULTERIORI CRITERI " DESIDERABILI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ENTIFICARE POSSIBILI ALTERNATIVE DI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RONTARE LE ALTERNATIVE PRIMA COI CRITERI IRRINUNCIABILI E POI CON I “DESIDERAT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RE I RISCHI DELLE ALTERNATIVE “PASSAT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EGLIERE L'ALTERNATIVA OTT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RE L'ATTU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3B76-56C0-431B-B647-CE1620017AE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027"/>
          <p:cNvSpPr/>
          <p:nvPr/>
        </p:nvSpPr>
        <p:spPr>
          <a:xfrm>
            <a:off x="1379160" y="1413000"/>
            <a:ext cx="15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 CH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ERCHE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C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28"/>
          <p:cNvSpPr/>
          <p:nvPr/>
        </p:nvSpPr>
        <p:spPr>
          <a:xfrm>
            <a:off x="5098320" y="1413000"/>
            <a:ext cx="307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STINA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IG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C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RGOMENTO/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URATA/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29"/>
          <p:cNvSpPr/>
          <p:nvPr/>
        </p:nvSpPr>
        <p:spPr>
          <a:xfrm>
            <a:off x="3962520" y="17668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30"/>
          <p:cNvSpPr/>
          <p:nvPr/>
        </p:nvSpPr>
        <p:spPr>
          <a:xfrm>
            <a:off x="3962520" y="242892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34"/>
          <p:cNvSpPr/>
          <p:nvPr/>
        </p:nvSpPr>
        <p:spPr>
          <a:xfrm>
            <a:off x="3962520" y="31114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35"/>
          <p:cNvSpPr/>
          <p:nvPr/>
        </p:nvSpPr>
        <p:spPr>
          <a:xfrm>
            <a:off x="3962520" y="37879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36"/>
          <p:cNvSpPr/>
          <p:nvPr/>
        </p:nvSpPr>
        <p:spPr>
          <a:xfrm>
            <a:off x="3962520" y="45007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037"/>
          <p:cNvSpPr/>
          <p:nvPr/>
        </p:nvSpPr>
        <p:spPr>
          <a:xfrm>
            <a:off x="3962520" y="51436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omande chiave per comunica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1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565E-A63B-4A72-83B2-4236A338599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3" name="Segnaposto numero diapositiva 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3D74-6F81-48EA-98D2-6202B3790FB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llaDiTesto 3"/>
          <p:cNvSpPr/>
          <p:nvPr/>
        </p:nvSpPr>
        <p:spPr>
          <a:xfrm>
            <a:off x="1543320" y="907920"/>
            <a:ext cx="159516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3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4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7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8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9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1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2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3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4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5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asellaDiTesto 4"/>
          <p:cNvSpPr/>
          <p:nvPr/>
        </p:nvSpPr>
        <p:spPr>
          <a:xfrm>
            <a:off x="4569840" y="836640"/>
            <a:ext cx="239220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6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7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8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9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1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2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3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4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5++++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6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7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8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9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30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027"/>
          <p:cNvSpPr/>
          <p:nvPr/>
        </p:nvSpPr>
        <p:spPr>
          <a:xfrm>
            <a:off x="1191960" y="1192320"/>
            <a:ext cx="72763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POSITIVO E INCORAGG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OSIZIONE CONCENTRATA E FR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ATTO VIS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RILAS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NNI DI ASS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CANZA DI DIS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TO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coltare con tutto il cor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99FA-D960-4821-9A13-5D8A7D3ED41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650880" y="961920"/>
            <a:ext cx="866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SIDERARE DI CA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EDERE CHIAR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ALIZZARE 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ALTARE SUBITO ALL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ascolto at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33520" y="4314960"/>
            <a:ext cx="883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ANDO HA DETTO… PROBABILMENTE INTENDEVA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INDI DEVO INTERPRETARE LE SUE PAROLE COME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ONO CERTO DI AVER COLTO IL SENSO DELLE SUE PAROLE, POTREBBE ESSERE PIU’ SPECIFIC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C8D3-B7D5-44BD-9740-0FA337E37DE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Gianmarco Falzi</cp:lastModifiedBy>
  <dcterms:modified xsi:type="dcterms:W3CDTF">2011-09-17T14:31:32Z</dcterms:modified>
  <cp:revision>76</cp:revision>
  <dc:subject/>
  <dc:title>Diapositiva 1</dc:title>
</cp:coreProperties>
</file>